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partyhorn.wav" ContentType="audio/x-wav"/>
  <Override PartName="/ppt/media/fastcar.wav" ContentType="audio/x-wav"/>
  <Override PartName="/ppt/media/WHOOSH.WAV" ContentType="audio/x-wav"/>
  <Override PartName="/ppt/media/image3.jpeg" ContentType="image/jpeg"/>
  <Override PartName="/ppt/media/caralarmoff.wav" ContentType="audio/x-wav"/>
  <Override PartName="/ppt/media/image2.jpeg" ContentType="image/jpeg"/>
  <Override PartName="/ppt/media/hzipup01.wav" ContentType="audio/x-wav"/>
  <Override PartName="/ppt/media/lzipup01.wav" ContentType="audio/x-wav"/>
  <Override PartName="/ppt/media/bserie06.wav" ContentType="audio/x-wav"/>
  <Override PartName="/ppt/media/jetflyby2.wav" ContentType="audio/x-wav"/>
  <Override PartName="/ppt/media/CAMERA.WAV" ContentType="audio/x-wav"/>
  <Override PartName="/ppt/media/image1.jpeg" ContentType="image/jpeg"/>
  <Override PartName="/ppt/media/image4.png" ContentType="image/png"/>
  <Override PartName="/ppt/media/zapbig0g.wav" ContentType="audio/x-wav"/>
  <Override PartName="/ppt/media/highchime.wav" ContentType="audio/x-wav"/>
  <Override PartName="/ppt/media/GUNSHOT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82A4-187D-4975-9CDD-E55DD2C35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64DB-5FBF-4B6F-9F7D-06C081D7D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3C4E-6639-4C54-9819-FA94EB021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1E9A-CAA6-48A8-881D-7A0BAA84A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911B-4367-422A-B801-694E9271B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0451-7717-4483-8937-CA1F61358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1733-D222-4ECE-AC81-AB06D4002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F212-C97F-4ACF-9287-2A3E3D10F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2D87-2E5F-451F-9C6E-689404BD9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EE12-54AF-4926-8064-17F8FFBCE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4866-6F61-4512-B964-209FA98FD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8801-4FE5-4337-ADCF-C0EA076D4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756D6-FAED-4045-870B-36D2D892F1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hzipup01.wav"/><Relationship Id="rId3" Type="http://schemas.openxmlformats.org/officeDocument/2006/relationships/audio" Target="../media/hzipup01.wav"/><Relationship Id="rId4" Type="http://schemas.openxmlformats.org/officeDocument/2006/relationships/audio" Target="../media/hzipup01.wav"/><Relationship Id="rId5" Type="http://schemas.openxmlformats.org/officeDocument/2006/relationships/audio" Target="../media/hzipup01.wav"/><Relationship Id="rId6" Type="http://schemas.openxmlformats.org/officeDocument/2006/relationships/audio" Target="../media/bserie06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zapbig0g.wav"/><Relationship Id="rId10" Type="http://schemas.openxmlformats.org/officeDocument/2006/relationships/audio" Target="../media/caralarmoff.wav"/><Relationship Id="rId11" Type="http://schemas.openxmlformats.org/officeDocument/2006/relationships/audio" Target="../media/zapbig0g.wav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hzipup01.wav"/><Relationship Id="rId3" Type="http://schemas.openxmlformats.org/officeDocument/2006/relationships/audio" Target="../media/hzipup01.wav"/><Relationship Id="rId4" Type="http://schemas.openxmlformats.org/officeDocument/2006/relationships/audio" Target="../media/jetflyby2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GUNSHOT.WAV"/><Relationship Id="rId6" Type="http://schemas.openxmlformats.org/officeDocument/2006/relationships/audio" Target="../media/GUNSHOT.WAV"/><Relationship Id="rId7" Type="http://schemas.openxmlformats.org/officeDocument/2006/relationships/audio" Target="../media/GUNSHOT.WAV"/><Relationship Id="rId8" Type="http://schemas.openxmlformats.org/officeDocument/2006/relationships/audio" Target="../media/jetflyby2.wav"/><Relationship Id="rId9" Type="http://schemas.openxmlformats.org/officeDocument/2006/relationships/audio" Target="../media/bserie06.wav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caralarmoff.wav"/><Relationship Id="rId3" Type="http://schemas.openxmlformats.org/officeDocument/2006/relationships/audio" Target="../media/fastcar.wav"/><Relationship Id="rId4" Type="http://schemas.openxmlformats.org/officeDocument/2006/relationships/audio" Target="../media/zapbig0g.wav"/><Relationship Id="rId5" Type="http://schemas.openxmlformats.org/officeDocument/2006/relationships/audio" Target="../media/zapbig0g.wav"/><Relationship Id="rId6" Type="http://schemas.openxmlformats.org/officeDocument/2006/relationships/audio" Target="../media/CAMERA.WAV"/><Relationship Id="rId7" Type="http://schemas.openxmlformats.org/officeDocument/2006/relationships/audio" Target="../media/caralarmoff.wav"/><Relationship Id="rId8" Type="http://schemas.openxmlformats.org/officeDocument/2006/relationships/audio" Target="../media/jetflyby2.wav"/><Relationship Id="rId9" Type="http://schemas.openxmlformats.org/officeDocument/2006/relationships/audio" Target="../media/jetflyby2.wav"/><Relationship Id="rId10" Type="http://schemas.openxmlformats.org/officeDocument/2006/relationships/audio" Target="../media/zapbig0g.wav"/><Relationship Id="rId11" Type="http://schemas.openxmlformats.org/officeDocument/2006/relationships/audio" Target="../media/zapbig0g.wav"/><Relationship Id="rId12" Type="http://schemas.openxmlformats.org/officeDocument/2006/relationships/audio" Target="../media/zapbig0g.wav"/><Relationship Id="rId13" Type="http://schemas.openxmlformats.org/officeDocument/2006/relationships/audio" Target="../media/zapbig0g.wav"/><Relationship Id="rId14" Type="http://schemas.openxmlformats.org/officeDocument/2006/relationships/audio" Target="../media/zapbig0g.wav"/><Relationship Id="rId15" Type="http://schemas.openxmlformats.org/officeDocument/2006/relationships/audio" Target="../media/zapbig0g.wav"/><Relationship Id="rId16" Type="http://schemas.openxmlformats.org/officeDocument/2006/relationships/audio" Target="../media/zapbig0g.wav"/><Relationship Id="rId17" Type="http://schemas.openxmlformats.org/officeDocument/2006/relationships/audio" Target="../media/zapbig0g.wav"/><Relationship Id="rId18" Type="http://schemas.openxmlformats.org/officeDocument/2006/relationships/audio" Target="../media/CAMERA.WAV"/><Relationship Id="rId19" Type="http://schemas.openxmlformats.org/officeDocument/2006/relationships/audio" Target="../media/CAMERA.WAV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bserie06.wav"/><Relationship Id="rId3" Type="http://schemas.openxmlformats.org/officeDocument/2006/relationships/audio" Target="../media/jetflyby2.wav"/><Relationship Id="rId4" Type="http://schemas.openxmlformats.org/officeDocument/2006/relationships/audio" Target="../media/jetflyby2.wav"/><Relationship Id="rId5" Type="http://schemas.openxmlformats.org/officeDocument/2006/relationships/audio" Target="../media/jetflyby2.wav"/><Relationship Id="rId6" Type="http://schemas.openxmlformats.org/officeDocument/2006/relationships/audio" Target="../media/jetflyby2.wav"/><Relationship Id="rId7" Type="http://schemas.openxmlformats.org/officeDocument/2006/relationships/audio" Target="../media/jetflyby2.wav"/><Relationship Id="rId8" Type="http://schemas.openxmlformats.org/officeDocument/2006/relationships/audio" Target="../media/jetflyby2.wav"/><Relationship Id="rId9" Type="http://schemas.openxmlformats.org/officeDocument/2006/relationships/audio" Target="../media/jetflyby2.wav"/><Relationship Id="rId10" Type="http://schemas.openxmlformats.org/officeDocument/2006/relationships/audio" Target="../media/jetflyby2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CAMERA.WAV"/><Relationship Id="rId1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aralarmoff.wav"/><Relationship Id="rId3" Type="http://schemas.openxmlformats.org/officeDocument/2006/relationships/audio" Target="../media/jetflyby2.wav"/><Relationship Id="rId4" Type="http://schemas.openxmlformats.org/officeDocument/2006/relationships/audio" Target="../media/jetflyby2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jetflyby2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jetflyby2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caralarmoff.wav"/><Relationship Id="rId6" Type="http://schemas.openxmlformats.org/officeDocument/2006/relationships/audio" Target="../media/GUNSHOT.WAV"/><Relationship Id="rId7" Type="http://schemas.openxmlformats.org/officeDocument/2006/relationships/audio" Target="../media/GUNSHOT.WAV"/><Relationship Id="rId8" Type="http://schemas.openxmlformats.org/officeDocument/2006/relationships/audio" Target="../media/partyhorn.wav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GUNSHOT.WAV"/><Relationship Id="rId3" Type="http://schemas.openxmlformats.org/officeDocument/2006/relationships/audio" Target="../media/GUNSHOT.WAV"/><Relationship Id="rId4" Type="http://schemas.openxmlformats.org/officeDocument/2006/relationships/audio" Target="../media/partyhorn.wav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GUNSHOT.WAV"/><Relationship Id="rId3" Type="http://schemas.openxmlformats.org/officeDocument/2006/relationships/audio" Target="../media/GUNSHOT.WAV"/><Relationship Id="rId4" Type="http://schemas.openxmlformats.org/officeDocument/2006/relationships/audio" Target="../media/partyhorn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GUNSHOT.WAV"/><Relationship Id="rId3" Type="http://schemas.openxmlformats.org/officeDocument/2006/relationships/audio" Target="../media/GUNSHOT.WAV"/><Relationship Id="rId4" Type="http://schemas.openxmlformats.org/officeDocument/2006/relationships/audio" Target="../media/partyhorn.wav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aralarmoff.wav"/><Relationship Id="rId4" Type="http://schemas.openxmlformats.org/officeDocument/2006/relationships/audio" Target="../media/highchime.wav"/><Relationship Id="rId5" Type="http://schemas.openxmlformats.org/officeDocument/2006/relationships/audio" Target="../media/highchime.wav"/><Relationship Id="rId6" Type="http://schemas.openxmlformats.org/officeDocument/2006/relationships/audio" Target="../media/highchime.wav"/><Relationship Id="rId7" Type="http://schemas.openxmlformats.org/officeDocument/2006/relationships/audio" Target="../media/highchime.wav"/><Relationship Id="rId8" Type="http://schemas.openxmlformats.org/officeDocument/2006/relationships/audio" Target="../media/highchime.wav"/><Relationship Id="rId9" Type="http://schemas.openxmlformats.org/officeDocument/2006/relationships/audio" Target="../media/CAMERA.WAV"/><Relationship Id="rId10" Type="http://schemas.openxmlformats.org/officeDocument/2006/relationships/audio" Target="../media/lzipup01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CAMERA.WAV"/><Relationship Id="rId14" Type="http://schemas.openxmlformats.org/officeDocument/2006/relationships/audio" Target="../media/lzipup01.wav"/><Relationship Id="rId15" Type="http://schemas.openxmlformats.org/officeDocument/2006/relationships/audio" Target="../media/CAMERA.WAV"/><Relationship Id="rId16" Type="http://schemas.openxmlformats.org/officeDocument/2006/relationships/audio" Target="../media/CAMERA.WAV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hzipup01.wav"/><Relationship Id="rId2" Type="http://schemas.openxmlformats.org/officeDocument/2006/relationships/audio" Target="../media/hzipup01.wav"/><Relationship Id="rId3" Type="http://schemas.openxmlformats.org/officeDocument/2006/relationships/audio" Target="../media/zapbig0g.wav"/><Relationship Id="rId4" Type="http://schemas.openxmlformats.org/officeDocument/2006/relationships/audio" Target="../media/zapbig0g.wav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highchime.wav"/><Relationship Id="rId6" Type="http://schemas.openxmlformats.org/officeDocument/2006/relationships/audio" Target="../media/highchime.wav"/><Relationship Id="rId7" Type="http://schemas.openxmlformats.org/officeDocument/2006/relationships/audio" Target="../media/highchime.wav"/><Relationship Id="rId8" Type="http://schemas.openxmlformats.org/officeDocument/2006/relationships/audio" Target="../media/CAMERA.WAV"/><Relationship Id="rId9" Type="http://schemas.openxmlformats.org/officeDocument/2006/relationships/audio" Target="../media/lzipup01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hzipup01.wav"/><Relationship Id="rId2" Type="http://schemas.openxmlformats.org/officeDocument/2006/relationships/audio" Target="../media/jetflyby2.wav"/><Relationship Id="rId3" Type="http://schemas.openxmlformats.org/officeDocument/2006/relationships/audio" Target="../media/CAMERA.WAV"/><Relationship Id="rId4" Type="http://schemas.openxmlformats.org/officeDocument/2006/relationships/audio" Target="../media/zapbig0g.wav"/><Relationship Id="rId5" Type="http://schemas.openxmlformats.org/officeDocument/2006/relationships/audio" Target="../media/CAMERA.WAV"/><Relationship Id="rId6" Type="http://schemas.openxmlformats.org/officeDocument/2006/relationships/audio" Target="../media/jetflyby2.wav"/><Relationship Id="rId7" Type="http://schemas.openxmlformats.org/officeDocument/2006/relationships/audio" Target="../media/CAMERA.WAV"/><Relationship Id="rId8" Type="http://schemas.openxmlformats.org/officeDocument/2006/relationships/audio" Target="../media/zapbig0g.wav"/><Relationship Id="rId9" Type="http://schemas.openxmlformats.org/officeDocument/2006/relationships/audio" Target="../media/zapbig0g.wav"/><Relationship Id="rId10" Type="http://schemas.openxmlformats.org/officeDocument/2006/relationships/audio" Target="../media/zapbig0g.wav"/><Relationship Id="rId11" Type="http://schemas.openxmlformats.org/officeDocument/2006/relationships/audio" Target="../media/zapbig0g.wav"/><Relationship Id="rId12" Type="http://schemas.openxmlformats.org/officeDocument/2006/relationships/audio" Target="../media/zapbig0g.wav"/><Relationship Id="rId13" Type="http://schemas.openxmlformats.org/officeDocument/2006/relationships/audio" Target="../media/zapbig0g.wav"/><Relationship Id="rId14" Type="http://schemas.openxmlformats.org/officeDocument/2006/relationships/audio" Target="../media/zapbig0g.wav"/><Relationship Id="rId15" Type="http://schemas.openxmlformats.org/officeDocument/2006/relationships/audio" Target="../media/zapbig0g.wav"/><Relationship Id="rId16" Type="http://schemas.openxmlformats.org/officeDocument/2006/relationships/audio" Target="../media/CAMERA.WAV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GUNSHOT.WAV"/><Relationship Id="rId6" Type="http://schemas.openxmlformats.org/officeDocument/2006/relationships/audio" Target="../media/GUNSHOT.WAV"/><Relationship Id="rId7" Type="http://schemas.openxmlformats.org/officeDocument/2006/relationships/audio" Target="../media/GUNSHOT.WAV"/><Relationship Id="rId8" Type="http://schemas.openxmlformats.org/officeDocument/2006/relationships/audio" Target="../media/jetflyby2.wav"/><Relationship Id="rId9" Type="http://schemas.openxmlformats.org/officeDocument/2006/relationships/audio" Target="../media/hzipup01.wav"/><Relationship Id="rId10" Type="http://schemas.openxmlformats.org/officeDocument/2006/relationships/audio" Target="../media/hzipup01.wav"/><Relationship Id="rId11" Type="http://schemas.openxmlformats.org/officeDocument/2006/relationships/audio" Target="../media/GUNSHOT.WAV"/><Relationship Id="rId12" Type="http://schemas.openxmlformats.org/officeDocument/2006/relationships/audio" Target="../media/GUNSHOT.WAV"/><Relationship Id="rId13" Type="http://schemas.openxmlformats.org/officeDocument/2006/relationships/audio" Target="../media/GUNSHOT.WAV"/><Relationship Id="rId14" Type="http://schemas.openxmlformats.org/officeDocument/2006/relationships/audio" Target="../media/jetflyby2.wav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GUNSHOT.WAV"/><Relationship Id="rId6" Type="http://schemas.openxmlformats.org/officeDocument/2006/relationships/audio" Target="../media/GUNSHOT.WAV"/><Relationship Id="rId7" Type="http://schemas.openxmlformats.org/officeDocument/2006/relationships/audio" Target="../media/GUNSHOT.WAV"/><Relationship Id="rId8" Type="http://schemas.openxmlformats.org/officeDocument/2006/relationships/audio" Target="../media/zapbig0g.wav"/><Relationship Id="rId9" Type="http://schemas.openxmlformats.org/officeDocument/2006/relationships/audio" Target="../media/caralarmoff.wav"/><Relationship Id="rId10" Type="http://schemas.openxmlformats.org/officeDocument/2006/relationships/audio" Target="../media/hzipup01.wav"/><Relationship Id="rId11" Type="http://schemas.openxmlformats.org/officeDocument/2006/relationships/audio" Target="../media/jetflyby2.wav"/><Relationship Id="rId12" Type="http://schemas.openxmlformats.org/officeDocument/2006/relationships/audio" Target="../media/GUNSHOT.WAV"/><Relationship Id="rId13" Type="http://schemas.openxmlformats.org/officeDocument/2006/relationships/audio" Target="../media/GUNSHOT.WAV"/><Relationship Id="rId14" Type="http://schemas.openxmlformats.org/officeDocument/2006/relationships/audio" Target="../media/GUNSHOT.WAV"/><Relationship Id="rId15" Type="http://schemas.openxmlformats.org/officeDocument/2006/relationships/audio" Target="../media/zapbig0g.wav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aralarmoff.wav"/><Relationship Id="rId3" Type="http://schemas.openxmlformats.org/officeDocument/2006/relationships/audio" Target="../media/caralarmoff.wav"/><Relationship Id="rId4" Type="http://schemas.openxmlformats.org/officeDocument/2006/relationships/audio" Target="../media/fastcar.wav"/><Relationship Id="rId5" Type="http://schemas.openxmlformats.org/officeDocument/2006/relationships/audio" Target="../media/zapbig0g.wav"/><Relationship Id="rId6" Type="http://schemas.openxmlformats.org/officeDocument/2006/relationships/audio" Target="../media/zapbig0g.wav"/><Relationship Id="rId7" Type="http://schemas.openxmlformats.org/officeDocument/2006/relationships/audio" Target="../media/CAMERA.WAV"/><Relationship Id="rId8" Type="http://schemas.openxmlformats.org/officeDocument/2006/relationships/audio" Target="../media/caralarmoff.wav"/><Relationship Id="rId9" Type="http://schemas.openxmlformats.org/officeDocument/2006/relationships/audio" Target="../media/hzipup01.wav"/><Relationship Id="rId10" Type="http://schemas.openxmlformats.org/officeDocument/2006/relationships/audio" Target="../media/zapbig0g.wav"/><Relationship Id="rId11" Type="http://schemas.openxmlformats.org/officeDocument/2006/relationships/audio" Target="../media/zapbig0g.wav"/><Relationship Id="rId12" Type="http://schemas.openxmlformats.org/officeDocument/2006/relationships/audio" Target="../media/zapbig0g.wav"/><Relationship Id="rId13" Type="http://schemas.openxmlformats.org/officeDocument/2006/relationships/audio" Target="../media/zapbig0g.wav"/><Relationship Id="rId14" Type="http://schemas.openxmlformats.org/officeDocument/2006/relationships/audio" Target="../media/CAMERA.WAV"/><Relationship Id="rId1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fastcar.wav"/><Relationship Id="rId3" Type="http://schemas.openxmlformats.org/officeDocument/2006/relationships/audio" Target="../media/zapbig0g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caralarmoff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highchime.wav"/><Relationship Id="rId6" Type="http://schemas.openxmlformats.org/officeDocument/2006/relationships/audio" Target="../media/GUNSHOT.WAV"/><Relationship Id="rId7" Type="http://schemas.openxmlformats.org/officeDocument/2006/relationships/audio" Target="../media/GUNSHOT.WAV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GUNSHOT.WAV"/><Relationship Id="rId6" Type="http://schemas.openxmlformats.org/officeDocument/2006/relationships/audio" Target="../media/GUNSHOT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tes Over 9 - 9                                Refle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83808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A _______________is a change of position or size of a fig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914400" y="914400"/>
            <a:ext cx="24480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ransformation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cc3300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914400" y="1981080"/>
            <a:ext cx="1752480" cy="2210040"/>
          </a:xfrm>
          <a:prstGeom prst="lightningBolt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914400" y="4266360"/>
            <a:ext cx="1752480" cy="2057400"/>
          </a:xfrm>
          <a:prstGeom prst="lightningBolt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741920" y="4603680"/>
            <a:ext cx="159048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reflection</a:t>
            </a:r>
            <a:endParaRPr b="0" lang="en-US" sz="24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3300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519360" y="4633920"/>
            <a:ext cx="70488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flip</a:t>
            </a:r>
            <a:endParaRPr b="0" lang="en-US" sz="2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3300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914400" y="1981080"/>
            <a:ext cx="1752480" cy="2210040"/>
          </a:xfrm>
          <a:prstGeom prst="lightningBolt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6200" y="4238640"/>
            <a:ext cx="67197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230800" y="3059280"/>
            <a:ext cx="3695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line of reflection</a:t>
            </a:r>
            <a:endParaRPr b="0" lang="en-US" sz="32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cxnSp>
        <p:nvCxnSpPr>
          <p:cNvPr id="51" name=""/>
          <p:cNvCxnSpPr/>
          <p:nvPr/>
        </p:nvCxnSpPr>
        <p:spPr>
          <a:xfrm rot="5400000">
            <a:off x="4076640" y="3093480"/>
            <a:ext cx="800640" cy="1316160"/>
          </a:xfrm>
          <a:prstGeom prst="curvedConnector5">
            <a:avLst>
              <a:gd name="adj1" fmla="val -3553"/>
              <a:gd name="adj2" fmla="val 49986"/>
              <a:gd name="adj3" fmla="val -3553"/>
            </a:avLst>
          </a:prstGeom>
          <a:ln w="57240">
            <a:solidFill>
              <a:srgbClr val="3333cc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91440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tes Over 9 - 10                                 Rot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" y="83808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A _______________is a change of position or size of a fig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914400" y="914400"/>
            <a:ext cx="24480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ransformation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cc3300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0" name=""/>
          <p:cNvSpPr/>
          <p:nvPr/>
        </p:nvSpPr>
        <p:spPr>
          <a:xfrm>
            <a:off x="914400" y="1981080"/>
            <a:ext cx="1752480" cy="2210040"/>
          </a:xfrm>
          <a:prstGeom prst="lightningBolt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4120" y="2057400"/>
            <a:ext cx="70488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urn</a:t>
            </a:r>
            <a:endParaRPr b="0" lang="en-US" sz="2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3300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5410080" y="2971800"/>
            <a:ext cx="13050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rotation</a:t>
            </a:r>
            <a:endParaRPr b="0" lang="en-US" sz="24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3300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914040" y="1981080"/>
            <a:ext cx="3505320" cy="4419360"/>
            <a:chOff x="914040" y="1981080"/>
            <a:chExt cx="3505320" cy="4419360"/>
          </a:xfrm>
        </p:grpSpPr>
        <p:sp>
          <p:nvSpPr>
            <p:cNvPr id="214" name=""/>
            <p:cNvSpPr/>
            <p:nvPr/>
          </p:nvSpPr>
          <p:spPr>
            <a:xfrm rot="10800000">
              <a:off x="2666520" y="4190760"/>
              <a:ext cx="1752840" cy="2209680"/>
            </a:xfrm>
            <a:prstGeom prst="lightningBol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rot="5400000">
              <a:off x="685440" y="2209680"/>
              <a:ext cx="220968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28600" y="88596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1. Find the vertices of the image of </a:t>
            </a:r>
            <a:r>
              <a:rPr b="1" lang="en-US" sz="3200" spc="-1" strike="noStrike">
                <a:solidFill>
                  <a:srgbClr val="cc3300"/>
                </a:solidFill>
                <a:latin typeface="Wingdings 3"/>
                <a:ea typeface="Wingdings 3"/>
              </a:rPr>
              <a:t>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RST after a rotation of 90</a:t>
            </a:r>
            <a:r>
              <a:rPr b="1" lang="en-US" sz="3200" spc="-1" strike="noStrike" baseline="30000">
                <a:solidFill>
                  <a:srgbClr val="cc3300"/>
                </a:solidFill>
                <a:latin typeface="Times New Roman"/>
                <a:ea typeface="Times New Roman"/>
              </a:rPr>
              <a:t>o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about the origin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2197080" y="2228760"/>
            <a:ext cx="4122360" cy="4122360"/>
            <a:chOff x="2197080" y="2228760"/>
            <a:chExt cx="4122360" cy="4122360"/>
          </a:xfrm>
        </p:grpSpPr>
        <p:sp>
          <p:nvSpPr>
            <p:cNvPr id="218" name=""/>
            <p:cNvSpPr/>
            <p:nvPr/>
          </p:nvSpPr>
          <p:spPr>
            <a:xfrm>
              <a:off x="2197080" y="222876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021120" y="2228760"/>
              <a:ext cx="412200" cy="412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845880" y="2228760"/>
              <a:ext cx="411840" cy="412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670280" y="2228760"/>
              <a:ext cx="412200" cy="412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494680" y="2228760"/>
              <a:ext cx="412200" cy="412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197080" y="2228760"/>
              <a:ext cx="412200" cy="412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197080" y="264096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197080" y="3053520"/>
              <a:ext cx="4122360" cy="411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197080" y="346536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197080" y="387756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197080" y="4290120"/>
              <a:ext cx="4122360" cy="411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197080" y="470196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197080" y="511452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197080" y="5526720"/>
              <a:ext cx="4122360" cy="411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197080" y="593892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4253040" y="2031840"/>
            <a:ext cx="0" cy="4470480"/>
          </a:xfrm>
          <a:prstGeom prst="line">
            <a:avLst/>
          </a:prstGeom>
          <a:ln w="5724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003400" y="4295880"/>
            <a:ext cx="4513320" cy="0"/>
          </a:xfrm>
          <a:prstGeom prst="line">
            <a:avLst/>
          </a:prstGeom>
          <a:ln w="5724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365640" y="4614840"/>
            <a:ext cx="144360" cy="14436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359160" y="5462640"/>
            <a:ext cx="144360" cy="14436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013360" y="5462640"/>
            <a:ext cx="144360" cy="14436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0"/>
            <a:ext cx="91440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tes Over 9 - 10                                 Rot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425760" y="4687920"/>
            <a:ext cx="1654200" cy="826920"/>
          </a:xfrm>
          <a:custGeom>
            <a:avLst/>
            <a:gdLst/>
            <a:ahLst/>
            <a:rect l="l" t="t" r="r" b="b"/>
            <a:pathLst>
              <a:path w="1042" h="521">
                <a:moveTo>
                  <a:pt x="0" y="0"/>
                </a:moveTo>
                <a:lnTo>
                  <a:pt x="0" y="521"/>
                </a:lnTo>
                <a:lnTo>
                  <a:pt x="1042" y="521"/>
                </a:lnTo>
                <a:lnTo>
                  <a:pt x="0" y="0"/>
                </a:lnTo>
                <a:close/>
              </a:path>
            </a:pathLst>
          </a:custGeom>
          <a:solidFill>
            <a:srgbClr val="9900ff">
              <a:alpha val="40000"/>
            </a:srgbClr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3029040" y="3056040"/>
            <a:ext cx="2558880" cy="2452680"/>
            <a:chOff x="3029040" y="3056040"/>
            <a:chExt cx="2558880" cy="2452680"/>
          </a:xfrm>
        </p:grpSpPr>
        <p:grpSp>
          <p:nvGrpSpPr>
            <p:cNvPr id="241" name=""/>
            <p:cNvGrpSpPr/>
            <p:nvPr/>
          </p:nvGrpSpPr>
          <p:grpSpPr>
            <a:xfrm>
              <a:off x="4595760" y="3381480"/>
              <a:ext cx="992160" cy="1798560"/>
              <a:chOff x="4595760" y="3381480"/>
              <a:chExt cx="992160" cy="1798560"/>
            </a:xfrm>
          </p:grpSpPr>
          <p:sp>
            <p:nvSpPr>
              <p:cNvPr id="242" name=""/>
              <p:cNvSpPr/>
              <p:nvPr/>
            </p:nvSpPr>
            <p:spPr>
              <a:xfrm rot="16200000">
                <a:off x="4595760" y="5028840"/>
                <a:ext cx="144360" cy="144720"/>
              </a:xfrm>
              <a:prstGeom prst="ellipse">
                <a:avLst/>
              </a:prstGeom>
              <a:solidFill>
                <a:srgbClr val="66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16200000">
                <a:off x="5443560" y="5035680"/>
                <a:ext cx="144360" cy="144360"/>
              </a:xfrm>
              <a:prstGeom prst="ellipse">
                <a:avLst/>
              </a:prstGeom>
              <a:solidFill>
                <a:srgbClr val="66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16200000">
                <a:off x="5443560" y="3381480"/>
                <a:ext cx="144360" cy="144360"/>
              </a:xfrm>
              <a:prstGeom prst="ellipse">
                <a:avLst/>
              </a:prstGeom>
              <a:solidFill>
                <a:srgbClr val="66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16200000">
                <a:off x="4255200" y="3872520"/>
                <a:ext cx="1654200" cy="827280"/>
              </a:xfrm>
              <a:custGeom>
                <a:avLst/>
                <a:gdLst/>
                <a:ahLst/>
                <a:rect l="l" t="t" r="r" b="b"/>
                <a:pathLst>
                  <a:path w="1042" h="521">
                    <a:moveTo>
                      <a:pt x="0" y="0"/>
                    </a:moveTo>
                    <a:lnTo>
                      <a:pt x="0" y="521"/>
                    </a:lnTo>
                    <a:lnTo>
                      <a:pt x="1042" y="5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00ff">
                  <a:alpha val="40000"/>
                </a:srgbClr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 rot="5400000">
              <a:off x="3035880" y="3048840"/>
              <a:ext cx="2452680" cy="246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2779560" y="4262400"/>
            <a:ext cx="9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049640" y="4659480"/>
            <a:ext cx="9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773440" y="5486400"/>
            <a:ext cx="92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03840" y="5473800"/>
            <a:ext cx="9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48440" y="5045040"/>
            <a:ext cx="92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64280" y="2995560"/>
            <a:ext cx="92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5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6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7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2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5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8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500"/>
                            </p:stCondLst>
                            <p:childTnLst>
                              <p:par>
                                <p:cTn id="59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1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500"/>
                            </p:stCondLst>
                            <p:childTnLst>
                              <p:par>
                                <p:cTn id="62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228600" y="855720"/>
            <a:ext cx="8915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Judging from appearance, tell whether the figure has rotational symmetry. If so, what is the angle of rot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0"/>
            <a:ext cx="91440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tes Over 9 - 10                                 Rot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30120" y="2297160"/>
            <a:ext cx="55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2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841320" y="2583000"/>
            <a:ext cx="2342880" cy="1792080"/>
            <a:chOff x="841320" y="2583000"/>
            <a:chExt cx="2342880" cy="1792080"/>
          </a:xfrm>
        </p:grpSpPr>
        <p:sp>
          <p:nvSpPr>
            <p:cNvPr id="257" name=""/>
            <p:cNvSpPr/>
            <p:nvPr/>
          </p:nvSpPr>
          <p:spPr>
            <a:xfrm>
              <a:off x="841320" y="2583000"/>
              <a:ext cx="1162080" cy="1785960"/>
            </a:xfrm>
            <a:custGeom>
              <a:avLst/>
              <a:gdLst/>
              <a:ahLst/>
              <a:rect l="l" t="t" r="r" b="b"/>
              <a:pathLst>
                <a:path w="732" h="1125">
                  <a:moveTo>
                    <a:pt x="165" y="0"/>
                  </a:moveTo>
                  <a:cubicBezTo>
                    <a:pt x="253" y="241"/>
                    <a:pt x="430" y="723"/>
                    <a:pt x="430" y="723"/>
                  </a:cubicBezTo>
                  <a:lnTo>
                    <a:pt x="0" y="1125"/>
                  </a:lnTo>
                  <a:lnTo>
                    <a:pt x="732" y="933"/>
                  </a:lnTo>
                  <a:lnTo>
                    <a:pt x="723" y="576"/>
                  </a:lnTo>
                  <a:lnTo>
                    <a:pt x="165" y="0"/>
                  </a:lnTo>
                  <a:close/>
                </a:path>
              </a:pathLst>
            </a:custGeom>
            <a:solidFill>
              <a:srgbClr val="cc99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1994760" y="2589120"/>
              <a:ext cx="1189080" cy="1785960"/>
            </a:xfrm>
            <a:custGeom>
              <a:avLst/>
              <a:gdLst/>
              <a:ahLst/>
              <a:rect l="l" t="t" r="r" b="b"/>
              <a:pathLst>
                <a:path w="732" h="1125">
                  <a:moveTo>
                    <a:pt x="165" y="0"/>
                  </a:moveTo>
                  <a:cubicBezTo>
                    <a:pt x="253" y="241"/>
                    <a:pt x="430" y="723"/>
                    <a:pt x="430" y="723"/>
                  </a:cubicBezTo>
                  <a:lnTo>
                    <a:pt x="0" y="1125"/>
                  </a:lnTo>
                  <a:lnTo>
                    <a:pt x="732" y="933"/>
                  </a:lnTo>
                  <a:lnTo>
                    <a:pt x="723" y="576"/>
                  </a:lnTo>
                  <a:lnTo>
                    <a:pt x="165" y="0"/>
                  </a:lnTo>
                  <a:close/>
                </a:path>
              </a:pathLst>
            </a:custGeom>
            <a:solidFill>
              <a:srgbClr val="cc99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727280" y="3525840"/>
              <a:ext cx="522360" cy="52380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946160" y="3730680"/>
              <a:ext cx="115920" cy="115920"/>
            </a:xfrm>
            <a:prstGeom prst="ellipse">
              <a:avLst/>
            </a:prstGeom>
            <a:solidFill>
              <a:srgbClr val="6600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851400" y="2590920"/>
            <a:ext cx="2342520" cy="1792080"/>
            <a:chOff x="851400" y="2590920"/>
            <a:chExt cx="2342520" cy="1792080"/>
          </a:xfrm>
        </p:grpSpPr>
        <p:sp>
          <p:nvSpPr>
            <p:cNvPr id="262" name=""/>
            <p:cNvSpPr/>
            <p:nvPr/>
          </p:nvSpPr>
          <p:spPr>
            <a:xfrm rot="10800000">
              <a:off x="2032200" y="2597040"/>
              <a:ext cx="1161720" cy="1785960"/>
            </a:xfrm>
            <a:custGeom>
              <a:avLst/>
              <a:gdLst/>
              <a:ahLst/>
              <a:rect l="l" t="t" r="r" b="b"/>
              <a:pathLst>
                <a:path w="732" h="1125">
                  <a:moveTo>
                    <a:pt x="165" y="0"/>
                  </a:moveTo>
                  <a:cubicBezTo>
                    <a:pt x="253" y="241"/>
                    <a:pt x="430" y="723"/>
                    <a:pt x="430" y="723"/>
                  </a:cubicBezTo>
                  <a:lnTo>
                    <a:pt x="0" y="1125"/>
                  </a:lnTo>
                  <a:lnTo>
                    <a:pt x="732" y="933"/>
                  </a:lnTo>
                  <a:lnTo>
                    <a:pt x="723" y="576"/>
                  </a:lnTo>
                  <a:lnTo>
                    <a:pt x="165" y="0"/>
                  </a:lnTo>
                  <a:close/>
                </a:path>
              </a:pathLst>
            </a:custGeom>
            <a:solidFill>
              <a:srgbClr val="cc99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 rot="10800000">
              <a:off x="851040" y="2590920"/>
              <a:ext cx="1188720" cy="1785600"/>
            </a:xfrm>
            <a:custGeom>
              <a:avLst/>
              <a:gdLst/>
              <a:ahLst/>
              <a:rect l="l" t="t" r="r" b="b"/>
              <a:pathLst>
                <a:path w="732" h="1125">
                  <a:moveTo>
                    <a:pt x="165" y="0"/>
                  </a:moveTo>
                  <a:cubicBezTo>
                    <a:pt x="253" y="241"/>
                    <a:pt x="430" y="723"/>
                    <a:pt x="430" y="723"/>
                  </a:cubicBezTo>
                  <a:lnTo>
                    <a:pt x="0" y="1125"/>
                  </a:lnTo>
                  <a:lnTo>
                    <a:pt x="732" y="933"/>
                  </a:lnTo>
                  <a:lnTo>
                    <a:pt x="723" y="576"/>
                  </a:lnTo>
                  <a:lnTo>
                    <a:pt x="165" y="0"/>
                  </a:lnTo>
                  <a:close/>
                </a:path>
              </a:pathLst>
            </a:custGeom>
            <a:solidFill>
              <a:srgbClr val="cc99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10800000">
              <a:off x="1786680" y="2916360"/>
              <a:ext cx="522000" cy="52380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1955880" y="3738600"/>
            <a:ext cx="115920" cy="11592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843120" y="2568600"/>
            <a:ext cx="2342520" cy="1792080"/>
            <a:chOff x="843120" y="2568600"/>
            <a:chExt cx="2342520" cy="1792080"/>
          </a:xfrm>
        </p:grpSpPr>
        <p:sp>
          <p:nvSpPr>
            <p:cNvPr id="267" name=""/>
            <p:cNvSpPr/>
            <p:nvPr/>
          </p:nvSpPr>
          <p:spPr>
            <a:xfrm>
              <a:off x="843120" y="2568600"/>
              <a:ext cx="1161720" cy="1785960"/>
            </a:xfrm>
            <a:custGeom>
              <a:avLst/>
              <a:gdLst/>
              <a:ahLst/>
              <a:rect l="l" t="t" r="r" b="b"/>
              <a:pathLst>
                <a:path w="732" h="1125">
                  <a:moveTo>
                    <a:pt x="165" y="0"/>
                  </a:moveTo>
                  <a:cubicBezTo>
                    <a:pt x="253" y="241"/>
                    <a:pt x="430" y="723"/>
                    <a:pt x="430" y="723"/>
                  </a:cubicBezTo>
                  <a:lnTo>
                    <a:pt x="0" y="1125"/>
                  </a:lnTo>
                  <a:lnTo>
                    <a:pt x="732" y="933"/>
                  </a:lnTo>
                  <a:lnTo>
                    <a:pt x="723" y="576"/>
                  </a:lnTo>
                  <a:lnTo>
                    <a:pt x="165" y="0"/>
                  </a:lnTo>
                  <a:close/>
                </a:path>
              </a:pathLst>
            </a:custGeom>
            <a:solidFill>
              <a:srgbClr val="cc99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996920" y="2575080"/>
              <a:ext cx="1188720" cy="1785600"/>
            </a:xfrm>
            <a:custGeom>
              <a:avLst/>
              <a:gdLst/>
              <a:ahLst/>
              <a:rect l="l" t="t" r="r" b="b"/>
              <a:pathLst>
                <a:path w="732" h="1125">
                  <a:moveTo>
                    <a:pt x="165" y="0"/>
                  </a:moveTo>
                  <a:cubicBezTo>
                    <a:pt x="253" y="241"/>
                    <a:pt x="430" y="723"/>
                    <a:pt x="430" y="723"/>
                  </a:cubicBezTo>
                  <a:lnTo>
                    <a:pt x="0" y="1125"/>
                  </a:lnTo>
                  <a:lnTo>
                    <a:pt x="732" y="933"/>
                  </a:lnTo>
                  <a:lnTo>
                    <a:pt x="723" y="576"/>
                  </a:lnTo>
                  <a:lnTo>
                    <a:pt x="165" y="0"/>
                  </a:lnTo>
                  <a:close/>
                </a:path>
              </a:pathLst>
            </a:custGeom>
            <a:solidFill>
              <a:srgbClr val="cc99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728360" y="3511440"/>
              <a:ext cx="522000" cy="52380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1947960" y="3716280"/>
            <a:ext cx="115920" cy="11592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77720" y="4869000"/>
            <a:ext cx="32101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 Rotational </a:t>
            </a:r>
            <a:endParaRPr b="0" lang="en-US" sz="32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symmetry</a:t>
            </a:r>
            <a:endParaRPr b="0" lang="en-US" sz="32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72" name=""/>
          <p:cNvSpPr/>
          <p:nvPr/>
        </p:nvSpPr>
        <p:spPr>
          <a:xfrm>
            <a:off x="4924440" y="2290680"/>
            <a:ext cx="55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3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819760" y="2351160"/>
            <a:ext cx="1670040" cy="2511360"/>
          </a:xfrm>
          <a:prstGeom prst="rect">
            <a:avLst/>
          </a:prstGeom>
          <a:solidFill>
            <a:srgbClr val="ff6600">
              <a:alpha val="6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583320" y="3533760"/>
            <a:ext cx="115920" cy="115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rot="5400000">
            <a:off x="5811480" y="2344320"/>
            <a:ext cx="1670040" cy="2511720"/>
          </a:xfrm>
          <a:prstGeom prst="rect">
            <a:avLst/>
          </a:prstGeom>
          <a:solidFill>
            <a:srgbClr val="ff6600">
              <a:alpha val="6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rot="5400000">
            <a:off x="6575400" y="3527280"/>
            <a:ext cx="115920" cy="115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827680" y="2357280"/>
            <a:ext cx="1670040" cy="2511720"/>
          </a:xfrm>
          <a:prstGeom prst="rect">
            <a:avLst/>
          </a:prstGeom>
          <a:solidFill>
            <a:srgbClr val="ff6600">
              <a:alpha val="6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591240" y="3540240"/>
            <a:ext cx="115920" cy="115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rot="5400000">
            <a:off x="5817960" y="2336760"/>
            <a:ext cx="1670040" cy="2511360"/>
          </a:xfrm>
          <a:prstGeom prst="rect">
            <a:avLst/>
          </a:prstGeom>
          <a:solidFill>
            <a:srgbClr val="ff6600">
              <a:alpha val="6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rot="5400000">
            <a:off x="6581880" y="3519360"/>
            <a:ext cx="115920" cy="115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32360" y="2351160"/>
            <a:ext cx="1670040" cy="2511360"/>
          </a:xfrm>
          <a:prstGeom prst="rect">
            <a:avLst/>
          </a:prstGeom>
          <a:solidFill>
            <a:srgbClr val="ff6600">
              <a:alpha val="6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595920" y="3533760"/>
            <a:ext cx="115920" cy="115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5186520" y="5137200"/>
            <a:ext cx="838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Yes</a:t>
            </a:r>
            <a:endParaRPr b="0" lang="en-US" sz="32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6907320" y="5159520"/>
            <a:ext cx="838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180</a:t>
            </a:r>
            <a:endParaRPr b="0" lang="en-US" sz="32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7772400" y="5081760"/>
            <a:ext cx="22536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o</a:t>
            </a:r>
            <a:endParaRPr b="0" lang="en-US" sz="14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3" dur="8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4" dur="8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5" dur="8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0" dur="8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1" dur="8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2" dur="8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fastc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7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6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9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0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1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6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7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7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7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7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228600" y="855720"/>
            <a:ext cx="8915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Judging from appearance, tell whether the figure has rotational symmetry. If so, what is the angle of rot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0"/>
            <a:ext cx="91440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tes Over 9 - 10                                 Rot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30120" y="2297160"/>
            <a:ext cx="55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4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1012680" y="3038400"/>
            <a:ext cx="3047760" cy="1562040"/>
            <a:chOff x="1012680" y="3038400"/>
            <a:chExt cx="3047760" cy="1562040"/>
          </a:xfrm>
        </p:grpSpPr>
        <p:sp>
          <p:nvSpPr>
            <p:cNvPr id="290" name=""/>
            <p:cNvSpPr/>
            <p:nvPr/>
          </p:nvSpPr>
          <p:spPr>
            <a:xfrm>
              <a:off x="1012680" y="3038400"/>
              <a:ext cx="3047760" cy="1562040"/>
            </a:xfrm>
            <a:prstGeom prst="hexagon">
              <a:avLst>
                <a:gd name="adj" fmla="val 48779"/>
                <a:gd name="vf" fmla="val 115470"/>
              </a:avLst>
            </a:prstGeom>
            <a:solidFill>
              <a:srgbClr val="666699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477880" y="3757680"/>
              <a:ext cx="115920" cy="115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1033560" y="3046320"/>
            <a:ext cx="3047760" cy="1562040"/>
          </a:xfrm>
          <a:prstGeom prst="hexagon">
            <a:avLst>
              <a:gd name="adj" fmla="val 48779"/>
              <a:gd name="vf" fmla="val 115470"/>
            </a:avLst>
          </a:prstGeom>
          <a:solidFill>
            <a:srgbClr val="666699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98760" y="3765600"/>
            <a:ext cx="115920" cy="115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rot="5400000">
            <a:off x="1013760" y="3036960"/>
            <a:ext cx="3048120" cy="1562040"/>
          </a:xfrm>
          <a:prstGeom prst="hexagon">
            <a:avLst>
              <a:gd name="adj" fmla="val 48784"/>
              <a:gd name="vf" fmla="val 115470"/>
            </a:avLst>
          </a:prstGeom>
          <a:solidFill>
            <a:srgbClr val="666699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479680" y="3755880"/>
            <a:ext cx="115920" cy="115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rot="5400000">
            <a:off x="1023120" y="3057480"/>
            <a:ext cx="3048120" cy="1562040"/>
          </a:xfrm>
          <a:prstGeom prst="hexagon">
            <a:avLst>
              <a:gd name="adj" fmla="val 48784"/>
              <a:gd name="vf" fmla="val 115470"/>
            </a:avLst>
          </a:prstGeom>
          <a:solidFill>
            <a:srgbClr val="666699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489040" y="3776760"/>
            <a:ext cx="115920" cy="115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012680" y="3040200"/>
            <a:ext cx="3048120" cy="1562040"/>
          </a:xfrm>
          <a:prstGeom prst="hexagon">
            <a:avLst>
              <a:gd name="adj" fmla="val 48784"/>
              <a:gd name="vf" fmla="val 115470"/>
            </a:avLst>
          </a:prstGeom>
          <a:solidFill>
            <a:srgbClr val="666699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459160" y="3749760"/>
            <a:ext cx="115920" cy="115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50920" y="5688000"/>
            <a:ext cx="838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Yes</a:t>
            </a:r>
            <a:endParaRPr b="0" lang="en-US" sz="32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2697120" y="5710320"/>
            <a:ext cx="838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180</a:t>
            </a:r>
            <a:endParaRPr b="0" lang="en-US" sz="32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562200" y="5632560"/>
            <a:ext cx="22572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o</a:t>
            </a:r>
            <a:endParaRPr b="0" lang="en-US" sz="14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3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4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5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120"/>
                            </p:stCondLst>
                            <p:childTnLst>
                              <p:par>
                                <p:cTn id="78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9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8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8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8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8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492  9 – 10 #1 – 11, 12 – 2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719280"/>
            <a:ext cx="70135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Each figure below is an image formed by rotating the figure at the right. What is each angle of rotation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6894360" y="839880"/>
            <a:ext cx="1843200" cy="1830240"/>
            <a:chOff x="6894360" y="839880"/>
            <a:chExt cx="1843200" cy="1830240"/>
          </a:xfrm>
        </p:grpSpPr>
        <p:sp>
          <p:nvSpPr>
            <p:cNvPr id="306" name=""/>
            <p:cNvSpPr/>
            <p:nvPr/>
          </p:nvSpPr>
          <p:spPr>
            <a:xfrm>
              <a:off x="6907320" y="853920"/>
              <a:ext cx="1814400" cy="18147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6908760" y="841320"/>
              <a:ext cx="1814400" cy="18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894360" y="841320"/>
              <a:ext cx="182880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908760" y="1741320"/>
              <a:ext cx="1814400" cy="928800"/>
            </a:xfrm>
            <a:custGeom>
              <a:avLst/>
              <a:gdLst/>
              <a:ahLst/>
              <a:rect l="l" t="t" r="r" b="b"/>
              <a:pathLst>
                <a:path w="1143" h="585">
                  <a:moveTo>
                    <a:pt x="0" y="585"/>
                  </a:moveTo>
                  <a:lnTo>
                    <a:pt x="567" y="0"/>
                  </a:lnTo>
                  <a:lnTo>
                    <a:pt x="1143" y="585"/>
                  </a:lnTo>
                  <a:lnTo>
                    <a:pt x="0" y="585"/>
                  </a:lnTo>
                  <a:close/>
                </a:path>
              </a:pathLst>
            </a:custGeom>
            <a:solidFill>
              <a:srgbClr val="3366ff">
                <a:alpha val="8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rot="5400000">
              <a:off x="6451560" y="1298520"/>
              <a:ext cx="1814400" cy="928800"/>
            </a:xfrm>
            <a:custGeom>
              <a:avLst/>
              <a:gdLst/>
              <a:ahLst/>
              <a:rect l="l" t="t" r="r" b="b"/>
              <a:pathLst>
                <a:path w="1143" h="585">
                  <a:moveTo>
                    <a:pt x="0" y="585"/>
                  </a:moveTo>
                  <a:lnTo>
                    <a:pt x="567" y="0"/>
                  </a:lnTo>
                  <a:lnTo>
                    <a:pt x="1143" y="585"/>
                  </a:lnTo>
                  <a:lnTo>
                    <a:pt x="0" y="585"/>
                  </a:lnTo>
                  <a:close/>
                </a:path>
              </a:pathLst>
            </a:custGeom>
            <a:solidFill>
              <a:srgbClr val="ff0000">
                <a:alpha val="7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rot="10800000">
              <a:off x="6901920" y="847080"/>
              <a:ext cx="1814760" cy="928440"/>
            </a:xfrm>
            <a:custGeom>
              <a:avLst/>
              <a:gdLst/>
              <a:ahLst/>
              <a:rect l="l" t="t" r="r" b="b"/>
              <a:pathLst>
                <a:path w="1143" h="585">
                  <a:moveTo>
                    <a:pt x="0" y="585"/>
                  </a:moveTo>
                  <a:lnTo>
                    <a:pt x="567" y="0"/>
                  </a:lnTo>
                  <a:lnTo>
                    <a:pt x="1143" y="585"/>
                  </a:lnTo>
                  <a:lnTo>
                    <a:pt x="0" y="585"/>
                  </a:lnTo>
                  <a:close/>
                </a:path>
              </a:pathLst>
            </a:custGeom>
            <a:solidFill>
              <a:srgbClr val="339966">
                <a:alpha val="6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rot="16200000">
              <a:off x="7365960" y="1282680"/>
              <a:ext cx="1814400" cy="928800"/>
            </a:xfrm>
            <a:custGeom>
              <a:avLst/>
              <a:gdLst/>
              <a:ahLst/>
              <a:rect l="l" t="t" r="r" b="b"/>
              <a:pathLst>
                <a:path w="1143" h="585">
                  <a:moveTo>
                    <a:pt x="0" y="585"/>
                  </a:moveTo>
                  <a:lnTo>
                    <a:pt x="567" y="0"/>
                  </a:lnTo>
                  <a:lnTo>
                    <a:pt x="1143" y="585"/>
                  </a:lnTo>
                  <a:lnTo>
                    <a:pt x="0" y="585"/>
                  </a:lnTo>
                  <a:close/>
                </a:path>
              </a:pathLst>
            </a:custGeom>
            <a:solidFill>
              <a:srgbClr val="ffff00">
                <a:alpha val="6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849240" y="3301560"/>
            <a:ext cx="1843200" cy="1835640"/>
            <a:chOff x="849240" y="3301560"/>
            <a:chExt cx="1843200" cy="1835640"/>
          </a:xfrm>
        </p:grpSpPr>
        <p:sp>
          <p:nvSpPr>
            <p:cNvPr id="314" name=""/>
            <p:cNvSpPr/>
            <p:nvPr/>
          </p:nvSpPr>
          <p:spPr>
            <a:xfrm>
              <a:off x="861840" y="3314880"/>
              <a:ext cx="1814760" cy="1814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863640" y="3301560"/>
              <a:ext cx="1814400" cy="181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49240" y="3301920"/>
              <a:ext cx="182880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rot="10800000">
              <a:off x="850320" y="3314520"/>
              <a:ext cx="1814760" cy="928440"/>
            </a:xfrm>
            <a:custGeom>
              <a:avLst/>
              <a:gdLst/>
              <a:ahLst/>
              <a:rect l="l" t="t" r="r" b="b"/>
              <a:pathLst>
                <a:path w="1143" h="585">
                  <a:moveTo>
                    <a:pt x="0" y="585"/>
                  </a:moveTo>
                  <a:lnTo>
                    <a:pt x="567" y="0"/>
                  </a:lnTo>
                  <a:lnTo>
                    <a:pt x="1143" y="585"/>
                  </a:lnTo>
                  <a:lnTo>
                    <a:pt x="0" y="585"/>
                  </a:lnTo>
                  <a:close/>
                </a:path>
              </a:pathLst>
            </a:custGeom>
            <a:solidFill>
              <a:srgbClr val="3366ff">
                <a:alpha val="8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16200000">
              <a:off x="1320840" y="3759120"/>
              <a:ext cx="1814400" cy="928800"/>
            </a:xfrm>
            <a:custGeom>
              <a:avLst/>
              <a:gdLst/>
              <a:ahLst/>
              <a:rect l="l" t="t" r="r" b="b"/>
              <a:pathLst>
                <a:path w="1143" h="585">
                  <a:moveTo>
                    <a:pt x="0" y="585"/>
                  </a:moveTo>
                  <a:lnTo>
                    <a:pt x="567" y="0"/>
                  </a:lnTo>
                  <a:lnTo>
                    <a:pt x="1143" y="585"/>
                  </a:lnTo>
                  <a:lnTo>
                    <a:pt x="0" y="585"/>
                  </a:lnTo>
                  <a:close/>
                </a:path>
              </a:pathLst>
            </a:custGeom>
            <a:solidFill>
              <a:srgbClr val="ff0000">
                <a:alpha val="7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71560" y="4208400"/>
              <a:ext cx="1814400" cy="928800"/>
            </a:xfrm>
            <a:custGeom>
              <a:avLst/>
              <a:gdLst/>
              <a:ahLst/>
              <a:rect l="l" t="t" r="r" b="b"/>
              <a:pathLst>
                <a:path w="1143" h="585">
                  <a:moveTo>
                    <a:pt x="0" y="585"/>
                  </a:moveTo>
                  <a:lnTo>
                    <a:pt x="567" y="0"/>
                  </a:lnTo>
                  <a:lnTo>
                    <a:pt x="1143" y="585"/>
                  </a:lnTo>
                  <a:lnTo>
                    <a:pt x="0" y="585"/>
                  </a:lnTo>
                  <a:close/>
                </a:path>
              </a:pathLst>
            </a:custGeom>
            <a:solidFill>
              <a:srgbClr val="339966">
                <a:alpha val="6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rot="5400000">
              <a:off x="406080" y="3759120"/>
              <a:ext cx="1814400" cy="928800"/>
            </a:xfrm>
            <a:custGeom>
              <a:avLst/>
              <a:gdLst/>
              <a:ahLst/>
              <a:rect l="l" t="t" r="r" b="b"/>
              <a:pathLst>
                <a:path w="1143" h="585">
                  <a:moveTo>
                    <a:pt x="0" y="585"/>
                  </a:moveTo>
                  <a:lnTo>
                    <a:pt x="567" y="0"/>
                  </a:lnTo>
                  <a:lnTo>
                    <a:pt x="1143" y="585"/>
                  </a:lnTo>
                  <a:lnTo>
                    <a:pt x="0" y="585"/>
                  </a:lnTo>
                  <a:close/>
                </a:path>
              </a:pathLst>
            </a:custGeom>
            <a:solidFill>
              <a:srgbClr val="ffff00">
                <a:alpha val="6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774960" y="3308400"/>
            <a:ext cx="1838160" cy="1841040"/>
            <a:chOff x="3774960" y="3308400"/>
            <a:chExt cx="1838160" cy="1841040"/>
          </a:xfrm>
        </p:grpSpPr>
        <p:sp>
          <p:nvSpPr>
            <p:cNvPr id="322" name=""/>
            <p:cNvSpPr/>
            <p:nvPr/>
          </p:nvSpPr>
          <p:spPr>
            <a:xfrm>
              <a:off x="3787560" y="3321000"/>
              <a:ext cx="1814400" cy="18140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789000" y="3308400"/>
              <a:ext cx="1814760" cy="18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774960" y="3308400"/>
              <a:ext cx="1828800" cy="182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rot="16200000">
              <a:off x="4241520" y="3771000"/>
              <a:ext cx="1814040" cy="928800"/>
            </a:xfrm>
            <a:custGeom>
              <a:avLst/>
              <a:gdLst/>
              <a:ahLst/>
              <a:rect l="l" t="t" r="r" b="b"/>
              <a:pathLst>
                <a:path w="1143" h="585">
                  <a:moveTo>
                    <a:pt x="0" y="585"/>
                  </a:moveTo>
                  <a:lnTo>
                    <a:pt x="567" y="0"/>
                  </a:lnTo>
                  <a:lnTo>
                    <a:pt x="1143" y="585"/>
                  </a:lnTo>
                  <a:lnTo>
                    <a:pt x="0" y="585"/>
                  </a:lnTo>
                  <a:close/>
                </a:path>
              </a:pathLst>
            </a:custGeom>
            <a:solidFill>
              <a:srgbClr val="3366ff">
                <a:alpha val="8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781080" y="4200480"/>
              <a:ext cx="1814760" cy="928080"/>
            </a:xfrm>
            <a:custGeom>
              <a:avLst/>
              <a:gdLst/>
              <a:ahLst/>
              <a:rect l="l" t="t" r="r" b="b"/>
              <a:pathLst>
                <a:path w="1143" h="585">
                  <a:moveTo>
                    <a:pt x="0" y="585"/>
                  </a:moveTo>
                  <a:lnTo>
                    <a:pt x="567" y="0"/>
                  </a:lnTo>
                  <a:lnTo>
                    <a:pt x="1143" y="585"/>
                  </a:lnTo>
                  <a:lnTo>
                    <a:pt x="0" y="585"/>
                  </a:lnTo>
                  <a:close/>
                </a:path>
              </a:pathLst>
            </a:custGeom>
            <a:solidFill>
              <a:srgbClr val="ff0000">
                <a:alpha val="7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rot="5400000">
              <a:off x="3331440" y="3791880"/>
              <a:ext cx="1814400" cy="900360"/>
            </a:xfrm>
            <a:custGeom>
              <a:avLst/>
              <a:gdLst/>
              <a:ahLst/>
              <a:rect l="l" t="t" r="r" b="b"/>
              <a:pathLst>
                <a:path w="1143" h="585">
                  <a:moveTo>
                    <a:pt x="0" y="585"/>
                  </a:moveTo>
                  <a:lnTo>
                    <a:pt x="567" y="0"/>
                  </a:lnTo>
                  <a:lnTo>
                    <a:pt x="1143" y="585"/>
                  </a:lnTo>
                  <a:lnTo>
                    <a:pt x="0" y="585"/>
                  </a:lnTo>
                  <a:close/>
                </a:path>
              </a:pathLst>
            </a:custGeom>
            <a:solidFill>
              <a:srgbClr val="339966">
                <a:alpha val="6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rot="10800000">
              <a:off x="3782880" y="3316320"/>
              <a:ext cx="1814400" cy="928080"/>
            </a:xfrm>
            <a:custGeom>
              <a:avLst/>
              <a:gdLst/>
              <a:ahLst/>
              <a:rect l="l" t="t" r="r" b="b"/>
              <a:pathLst>
                <a:path w="1143" h="585">
                  <a:moveTo>
                    <a:pt x="0" y="585"/>
                  </a:moveTo>
                  <a:lnTo>
                    <a:pt x="567" y="0"/>
                  </a:lnTo>
                  <a:lnTo>
                    <a:pt x="1143" y="585"/>
                  </a:lnTo>
                  <a:lnTo>
                    <a:pt x="0" y="585"/>
                  </a:lnTo>
                  <a:close/>
                </a:path>
              </a:pathLst>
            </a:custGeom>
            <a:solidFill>
              <a:srgbClr val="ffff00">
                <a:alpha val="6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6662880" y="3281400"/>
            <a:ext cx="1830240" cy="1849320"/>
            <a:chOff x="6662880" y="3281400"/>
            <a:chExt cx="1830240" cy="1849320"/>
          </a:xfrm>
        </p:grpSpPr>
        <p:sp>
          <p:nvSpPr>
            <p:cNvPr id="330" name=""/>
            <p:cNvSpPr/>
            <p:nvPr/>
          </p:nvSpPr>
          <p:spPr>
            <a:xfrm>
              <a:off x="6675480" y="3294000"/>
              <a:ext cx="1814400" cy="18147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6676920" y="3281400"/>
              <a:ext cx="1814760" cy="18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662880" y="3281400"/>
              <a:ext cx="182880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rot="5400000">
              <a:off x="6226200" y="3759120"/>
              <a:ext cx="1814400" cy="928800"/>
            </a:xfrm>
            <a:custGeom>
              <a:avLst/>
              <a:gdLst/>
              <a:ahLst/>
              <a:rect l="l" t="t" r="r" b="b"/>
              <a:pathLst>
                <a:path w="1143" h="585">
                  <a:moveTo>
                    <a:pt x="0" y="585"/>
                  </a:moveTo>
                  <a:lnTo>
                    <a:pt x="567" y="0"/>
                  </a:lnTo>
                  <a:lnTo>
                    <a:pt x="1143" y="585"/>
                  </a:lnTo>
                  <a:lnTo>
                    <a:pt x="0" y="585"/>
                  </a:lnTo>
                  <a:close/>
                </a:path>
              </a:pathLst>
            </a:custGeom>
            <a:solidFill>
              <a:srgbClr val="3366ff">
                <a:alpha val="8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rot="10800000">
              <a:off x="6668640" y="3300480"/>
              <a:ext cx="1814760" cy="928800"/>
            </a:xfrm>
            <a:custGeom>
              <a:avLst/>
              <a:gdLst/>
              <a:ahLst/>
              <a:rect l="l" t="t" r="r" b="b"/>
              <a:pathLst>
                <a:path w="1143" h="585">
                  <a:moveTo>
                    <a:pt x="0" y="585"/>
                  </a:moveTo>
                  <a:lnTo>
                    <a:pt x="567" y="0"/>
                  </a:lnTo>
                  <a:lnTo>
                    <a:pt x="1143" y="585"/>
                  </a:lnTo>
                  <a:lnTo>
                    <a:pt x="0" y="585"/>
                  </a:lnTo>
                  <a:close/>
                </a:path>
              </a:pathLst>
            </a:custGeom>
            <a:solidFill>
              <a:srgbClr val="ff0000">
                <a:alpha val="7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rot="16200000">
              <a:off x="7121160" y="3736440"/>
              <a:ext cx="1814760" cy="928800"/>
            </a:xfrm>
            <a:custGeom>
              <a:avLst/>
              <a:gdLst/>
              <a:ahLst/>
              <a:rect l="l" t="t" r="r" b="b"/>
              <a:pathLst>
                <a:path w="1143" h="585">
                  <a:moveTo>
                    <a:pt x="0" y="585"/>
                  </a:moveTo>
                  <a:lnTo>
                    <a:pt x="567" y="0"/>
                  </a:lnTo>
                  <a:lnTo>
                    <a:pt x="1143" y="585"/>
                  </a:lnTo>
                  <a:lnTo>
                    <a:pt x="0" y="585"/>
                  </a:lnTo>
                  <a:close/>
                </a:path>
              </a:pathLst>
            </a:custGeom>
            <a:solidFill>
              <a:srgbClr val="339966">
                <a:alpha val="6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669000" y="4202280"/>
              <a:ext cx="1814760" cy="928440"/>
            </a:xfrm>
            <a:custGeom>
              <a:avLst/>
              <a:gdLst/>
              <a:ahLst/>
              <a:rect l="l" t="t" r="r" b="b"/>
              <a:pathLst>
                <a:path w="1143" h="585">
                  <a:moveTo>
                    <a:pt x="0" y="585"/>
                  </a:moveTo>
                  <a:lnTo>
                    <a:pt x="567" y="0"/>
                  </a:lnTo>
                  <a:lnTo>
                    <a:pt x="1143" y="585"/>
                  </a:lnTo>
                  <a:lnTo>
                    <a:pt x="0" y="585"/>
                  </a:lnTo>
                  <a:close/>
                </a:path>
              </a:pathLst>
            </a:custGeom>
            <a:solidFill>
              <a:srgbClr val="ffff00">
                <a:alpha val="6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344520" y="2979720"/>
            <a:ext cx="55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1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260880" y="3022560"/>
            <a:ext cx="556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2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208560" y="3036960"/>
            <a:ext cx="55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3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333440" y="5433840"/>
            <a:ext cx="8384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180</a:t>
            </a:r>
            <a:endParaRPr b="0" lang="en-US" sz="32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2198520" y="5356080"/>
            <a:ext cx="22572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o</a:t>
            </a:r>
            <a:endParaRPr b="0" lang="en-US" sz="14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468680" y="5479920"/>
            <a:ext cx="552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90</a:t>
            </a:r>
            <a:endParaRPr b="0" lang="en-US" sz="32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5100480" y="5372280"/>
            <a:ext cx="22572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o</a:t>
            </a:r>
            <a:endParaRPr b="0" lang="en-US" sz="14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7151760" y="5464080"/>
            <a:ext cx="838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270</a:t>
            </a:r>
            <a:endParaRPr b="0" lang="en-US" sz="32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8016840" y="5386320"/>
            <a:ext cx="22536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o</a:t>
            </a:r>
            <a:endParaRPr b="0" lang="en-US" sz="14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2900"/>
                            </p:stCondLst>
                            <p:childTnLst>
                              <p:par>
                                <p:cTn id="878" nodeType="afterEffect" fill="hold" presetClass="emph" presetID="2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87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8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8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88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7" dur="8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8" dur="8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9" dur="8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3480"/>
                            </p:stCondLst>
                            <p:childTnLst>
                              <p:par>
                                <p:cTn id="89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93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8" dur="8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9" dur="8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0" dur="8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03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6" dur="8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7" dur="8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8" dur="8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21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4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5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6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39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492  9 – 10 #1 – 11, 12 – 2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719280"/>
            <a:ext cx="9118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Graph each point. Then rotate it the given number of degrees about the origin. What are the coordinates of the imag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3989520" y="2135160"/>
            <a:ext cx="4122360" cy="4122360"/>
            <a:chOff x="3989520" y="2135160"/>
            <a:chExt cx="4122360" cy="4122360"/>
          </a:xfrm>
        </p:grpSpPr>
        <p:sp>
          <p:nvSpPr>
            <p:cNvPr id="349" name=""/>
            <p:cNvSpPr/>
            <p:nvPr/>
          </p:nvSpPr>
          <p:spPr>
            <a:xfrm>
              <a:off x="3989520" y="213516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813560" y="2135160"/>
              <a:ext cx="412200" cy="412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638320" y="2135160"/>
              <a:ext cx="411840" cy="412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462720" y="2135160"/>
              <a:ext cx="412200" cy="412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287120" y="2135160"/>
              <a:ext cx="412200" cy="412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989520" y="2135160"/>
              <a:ext cx="412200" cy="412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989520" y="254736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989520" y="2959920"/>
              <a:ext cx="4122360" cy="411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989520" y="337176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989520" y="378396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989520" y="4196520"/>
              <a:ext cx="4122360" cy="411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989520" y="460836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989520" y="502092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989520" y="5433120"/>
              <a:ext cx="4122360" cy="411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989520" y="584532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6045120" y="1938240"/>
            <a:ext cx="0" cy="4470480"/>
          </a:xfrm>
          <a:prstGeom prst="line">
            <a:avLst/>
          </a:prstGeom>
          <a:ln w="5724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795840" y="4202280"/>
            <a:ext cx="4512960" cy="0"/>
          </a:xfrm>
          <a:prstGeom prst="line">
            <a:avLst/>
          </a:prstGeom>
          <a:ln w="5724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8031240" y="2068560"/>
            <a:ext cx="144360" cy="14436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445520" y="2077920"/>
            <a:ext cx="92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736800" y="2111400"/>
            <a:ext cx="9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87280" y="2065320"/>
            <a:ext cx="422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4.  </a:t>
            </a:r>
            <a:r>
              <a:rPr b="1" i="1" lang="en-US" sz="3600" spc="-1" strike="noStrike">
                <a:solidFill>
                  <a:srgbClr val="800000"/>
                </a:solidFill>
                <a:latin typeface="Times New Roman"/>
              </a:rPr>
              <a:t>A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(5, 5); 90</a:t>
            </a:r>
            <a:r>
              <a:rPr b="1" lang="en-US" sz="3600" spc="-1" strike="noStrike" baseline="40000">
                <a:solidFill>
                  <a:srgbClr val="8000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916440" y="2075040"/>
            <a:ext cx="144360" cy="14436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803160" y="3043080"/>
            <a:ext cx="22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A</a:t>
            </a:r>
            <a:r>
              <a:rPr b="1" i="1" lang="en-US" sz="4000" spc="-1" strike="noStrike">
                <a:solidFill>
                  <a:srgbClr val="0000cc"/>
                </a:solidFill>
                <a:latin typeface="Book Antiqua"/>
              </a:rPr>
              <a:t>’</a:t>
            </a:r>
            <a:r>
              <a:rPr b="1" lang="en-US" sz="4000" spc="-1" strike="noStrike">
                <a:solidFill>
                  <a:srgbClr val="0000cc"/>
                </a:solidFill>
                <a:latin typeface="Book Antiqua"/>
              </a:rPr>
              <a:t>(</a:t>
            </a:r>
            <a:r>
              <a:rPr b="1" lang="en-US" sz="4000" spc="-1" strike="noStrike">
                <a:solidFill>
                  <a:srgbClr val="0000cc"/>
                </a:solidFill>
                <a:latin typeface="Zurich Ex BT"/>
              </a:rPr>
              <a:t>-</a:t>
            </a:r>
            <a:r>
              <a:rPr b="1" lang="en-US" sz="4000" spc="-1" strike="noStrike">
                <a:solidFill>
                  <a:srgbClr val="0000cc"/>
                </a:solidFill>
                <a:latin typeface="Book Antiqua"/>
              </a:rPr>
              <a:t> </a:t>
            </a:r>
            <a:r>
              <a:rPr b="1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5, 5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8" dur="indefinite" restart="never" nodeType="tmRoot">
          <p:childTnLst>
            <p:seq>
              <p:cTn id="949" dur="indefinite" nodeType="mainSeq">
                <p:childTnLst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4" dur="8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5" dur="8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6" dur="8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1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4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7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2" dur="8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3" dur="8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4" dur="8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500"/>
                            </p:stCondLst>
                            <p:childTnLst>
                              <p:par>
                                <p:cTn id="99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5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492  9 – 10 #1 – 11, 12 – 2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0" y="719280"/>
            <a:ext cx="9118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Graph each point. Then rotate it the given number of degrees about the origin. What are the coordinates of the imag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3989520" y="2135160"/>
            <a:ext cx="4122360" cy="4122360"/>
            <a:chOff x="3989520" y="2135160"/>
            <a:chExt cx="4122360" cy="4122360"/>
          </a:xfrm>
        </p:grpSpPr>
        <p:sp>
          <p:nvSpPr>
            <p:cNvPr id="375" name=""/>
            <p:cNvSpPr/>
            <p:nvPr/>
          </p:nvSpPr>
          <p:spPr>
            <a:xfrm>
              <a:off x="3989520" y="213516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13560" y="2135160"/>
              <a:ext cx="412200" cy="412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638320" y="2135160"/>
              <a:ext cx="411840" cy="412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462720" y="2135160"/>
              <a:ext cx="412200" cy="412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287120" y="2135160"/>
              <a:ext cx="412200" cy="412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989520" y="2135160"/>
              <a:ext cx="412200" cy="412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989520" y="254736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989520" y="2959920"/>
              <a:ext cx="4122360" cy="411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989520" y="337176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989520" y="378396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989520" y="4196520"/>
              <a:ext cx="4122360" cy="411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989520" y="460836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989520" y="502092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989520" y="5433120"/>
              <a:ext cx="4122360" cy="411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989520" y="584532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>
            <a:off x="6045120" y="1938240"/>
            <a:ext cx="0" cy="4470480"/>
          </a:xfrm>
          <a:prstGeom prst="line">
            <a:avLst/>
          </a:prstGeom>
          <a:ln w="5724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795840" y="4202280"/>
            <a:ext cx="4512960" cy="0"/>
          </a:xfrm>
          <a:prstGeom prst="line">
            <a:avLst/>
          </a:prstGeom>
          <a:ln w="5724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970600" y="4941720"/>
            <a:ext cx="144360" cy="14472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384880" y="4951440"/>
            <a:ext cx="92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348160" y="3375000"/>
            <a:ext cx="9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87280" y="2065320"/>
            <a:ext cx="422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5.  </a:t>
            </a:r>
            <a:r>
              <a:rPr b="1" i="1" lang="en-US" sz="3600" spc="-1" strike="noStrike">
                <a:solidFill>
                  <a:srgbClr val="800000"/>
                </a:solidFill>
                <a:latin typeface="Times New Roman"/>
              </a:rPr>
              <a:t>B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(0, </a:t>
            </a:r>
            <a:r>
              <a:rPr b="1" lang="en-US" sz="3600" spc="-1" strike="noStrike">
                <a:solidFill>
                  <a:srgbClr val="800000"/>
                </a:solidFill>
                <a:latin typeface="Zurich Ex BT"/>
              </a:rPr>
              <a:t>-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 2); 180</a:t>
            </a:r>
            <a:r>
              <a:rPr b="1" lang="en-US" sz="3600" spc="-1" strike="noStrike" baseline="40000">
                <a:solidFill>
                  <a:srgbClr val="8000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977080" y="3294000"/>
            <a:ext cx="144360" cy="14436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961920" y="3043080"/>
            <a:ext cx="199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B</a:t>
            </a:r>
            <a:r>
              <a:rPr b="1" i="1" lang="en-US" sz="4000" spc="-1" strike="noStrike">
                <a:solidFill>
                  <a:srgbClr val="0000cc"/>
                </a:solidFill>
                <a:latin typeface="Book Antiqua"/>
              </a:rPr>
              <a:t>’</a:t>
            </a:r>
            <a:r>
              <a:rPr b="1" lang="en-US" sz="4000" spc="-1" strike="noStrike">
                <a:solidFill>
                  <a:srgbClr val="0000cc"/>
                </a:solidFill>
                <a:latin typeface="Book Antiqua"/>
              </a:rPr>
              <a:t>(</a:t>
            </a:r>
            <a:r>
              <a:rPr b="1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0, 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8" dur="8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9" dur="8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0" dur="8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fill="hold">
                            <p:stCondLst>
                              <p:cond delay="500"/>
                            </p:stCondLst>
                            <p:childTnLst>
                              <p:par>
                                <p:cTn id="102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5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492  9 – 10 #1 – 11, 12 – 2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719280"/>
            <a:ext cx="9118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Graph each point. Then rotate it the given number of degrees about the origin. What are the coordinates of the imag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3989520" y="2135160"/>
            <a:ext cx="4122360" cy="4122360"/>
            <a:chOff x="3989520" y="2135160"/>
            <a:chExt cx="4122360" cy="4122360"/>
          </a:xfrm>
        </p:grpSpPr>
        <p:sp>
          <p:nvSpPr>
            <p:cNvPr id="401" name=""/>
            <p:cNvSpPr/>
            <p:nvPr/>
          </p:nvSpPr>
          <p:spPr>
            <a:xfrm>
              <a:off x="3989520" y="213516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813560" y="2135160"/>
              <a:ext cx="412200" cy="412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638320" y="2135160"/>
              <a:ext cx="411840" cy="412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462720" y="2135160"/>
              <a:ext cx="412200" cy="412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287120" y="2135160"/>
              <a:ext cx="412200" cy="412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89520" y="2135160"/>
              <a:ext cx="412200" cy="412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989520" y="254736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989520" y="2959920"/>
              <a:ext cx="4122360" cy="411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989520" y="337176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989520" y="378396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989520" y="4196520"/>
              <a:ext cx="4122360" cy="411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989520" y="460836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989520" y="502092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989520" y="5433120"/>
              <a:ext cx="4122360" cy="411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989520" y="584532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6" name=""/>
          <p:cNvSpPr/>
          <p:nvPr/>
        </p:nvSpPr>
        <p:spPr>
          <a:xfrm>
            <a:off x="6045120" y="1938240"/>
            <a:ext cx="0" cy="4470480"/>
          </a:xfrm>
          <a:prstGeom prst="line">
            <a:avLst/>
          </a:prstGeom>
          <a:ln w="5724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795840" y="4202280"/>
            <a:ext cx="4512960" cy="0"/>
          </a:xfrm>
          <a:prstGeom prst="line">
            <a:avLst/>
          </a:prstGeom>
          <a:ln w="5724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797520" y="2475000"/>
            <a:ext cx="144720" cy="14436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211800" y="2484360"/>
            <a:ext cx="9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548240" y="5843520"/>
            <a:ext cx="9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87280" y="2065320"/>
            <a:ext cx="422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6.  </a:t>
            </a:r>
            <a:r>
              <a:rPr b="1" i="1" lang="en-US" sz="3600" spc="-1" strike="noStrike">
                <a:solidFill>
                  <a:srgbClr val="800000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(2, 4); 180</a:t>
            </a:r>
            <a:r>
              <a:rPr b="1" lang="en-US" sz="3600" spc="-1" strike="noStrike" baseline="40000">
                <a:solidFill>
                  <a:srgbClr val="8000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151600" y="5776920"/>
            <a:ext cx="144360" cy="14436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961920" y="3043080"/>
            <a:ext cx="255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C</a:t>
            </a:r>
            <a:r>
              <a:rPr b="1" i="1" lang="en-US" sz="4000" spc="-1" strike="noStrike">
                <a:solidFill>
                  <a:srgbClr val="0000cc"/>
                </a:solidFill>
                <a:latin typeface="Book Antiqua"/>
              </a:rPr>
              <a:t>’</a:t>
            </a:r>
            <a:r>
              <a:rPr b="1" lang="en-US" sz="4000" spc="-1" strike="noStrike">
                <a:solidFill>
                  <a:srgbClr val="0000cc"/>
                </a:solidFill>
                <a:latin typeface="Book Antiqua"/>
              </a:rPr>
              <a:t>(</a:t>
            </a:r>
            <a:r>
              <a:rPr b="1" lang="en-US" sz="4000" spc="-1" strike="noStrike">
                <a:solidFill>
                  <a:srgbClr val="0000cc"/>
                </a:solidFill>
                <a:latin typeface="Zurich Ex BT"/>
                <a:ea typeface="Times New Roman"/>
              </a:rPr>
              <a:t>-</a:t>
            </a:r>
            <a:r>
              <a:rPr b="1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2, </a:t>
            </a:r>
            <a:r>
              <a:rPr b="1" lang="en-US" sz="4000" spc="-1" strike="noStrike">
                <a:solidFill>
                  <a:srgbClr val="0000cc"/>
                </a:solidFill>
                <a:latin typeface="Zurich Ex BT"/>
                <a:ea typeface="Times New Roman"/>
              </a:rPr>
              <a:t>-</a:t>
            </a:r>
            <a:r>
              <a:rPr b="1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4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8" dur="indefinite" restart="never" nodeType="tmRoot">
          <p:childTnLst>
            <p:seq>
              <p:cTn id="1039" dur="indefinite" nodeType="mainSeq">
                <p:childTnLst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4" dur="8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5" dur="8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6" dur="8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3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500"/>
                            </p:stCondLst>
                            <p:childTnLst>
                              <p:par>
                                <p:cTn id="106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5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492  9 – 10 #1 – 11, 12 – 2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0" y="719280"/>
            <a:ext cx="9118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Graph each point. Then rotate it the given number of degrees about the origin. What are the coordinates of the imag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3989520" y="2135160"/>
            <a:ext cx="4122360" cy="4122360"/>
            <a:chOff x="3989520" y="2135160"/>
            <a:chExt cx="4122360" cy="4122360"/>
          </a:xfrm>
        </p:grpSpPr>
        <p:sp>
          <p:nvSpPr>
            <p:cNvPr id="427" name=""/>
            <p:cNvSpPr/>
            <p:nvPr/>
          </p:nvSpPr>
          <p:spPr>
            <a:xfrm>
              <a:off x="3989520" y="213516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813560" y="2135160"/>
              <a:ext cx="412200" cy="412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638320" y="2135160"/>
              <a:ext cx="411840" cy="412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462720" y="2135160"/>
              <a:ext cx="412200" cy="412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287120" y="2135160"/>
              <a:ext cx="412200" cy="412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989520" y="2135160"/>
              <a:ext cx="412200" cy="412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989520" y="254736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989520" y="2959920"/>
              <a:ext cx="4122360" cy="411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989520" y="337176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989520" y="378396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89520" y="4196520"/>
              <a:ext cx="4122360" cy="411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989520" y="460836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989520" y="502092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989520" y="5433120"/>
              <a:ext cx="4122360" cy="411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989520" y="584532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6045120" y="1938240"/>
            <a:ext cx="0" cy="4470480"/>
          </a:xfrm>
          <a:prstGeom prst="line">
            <a:avLst/>
          </a:prstGeom>
          <a:ln w="5724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795840" y="4202280"/>
            <a:ext cx="4512960" cy="0"/>
          </a:xfrm>
          <a:prstGeom prst="line">
            <a:avLst/>
          </a:prstGeom>
          <a:ln w="5724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548320" y="5378400"/>
            <a:ext cx="144360" cy="14436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62600" y="5388120"/>
            <a:ext cx="92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622920" y="4595760"/>
            <a:ext cx="9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87280" y="2065320"/>
            <a:ext cx="422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7.  </a:t>
            </a:r>
            <a:r>
              <a:rPr b="1" i="1" lang="en-US" sz="3600" spc="-1" strike="noStrike">
                <a:solidFill>
                  <a:srgbClr val="800000"/>
                </a:solidFill>
                <a:latin typeface="Times New Roman"/>
              </a:rPr>
              <a:t>D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800000"/>
                </a:solidFill>
                <a:latin typeface="Zurich Ex BT"/>
              </a:rPr>
              <a:t>-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 1, </a:t>
            </a:r>
            <a:r>
              <a:rPr b="1" lang="en-US" sz="3600" spc="-1" strike="noStrike">
                <a:solidFill>
                  <a:srgbClr val="800000"/>
                </a:solidFill>
                <a:latin typeface="Zurich Ex BT"/>
              </a:rPr>
              <a:t>-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 3); 90</a:t>
            </a:r>
            <a:r>
              <a:rPr b="1" lang="en-US" sz="3600" spc="-1" strike="noStrike" baseline="40000">
                <a:solidFill>
                  <a:srgbClr val="8000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215120" y="4525920"/>
            <a:ext cx="144360" cy="14436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61920" y="3043080"/>
            <a:ext cx="255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C</a:t>
            </a:r>
            <a:r>
              <a:rPr b="1" i="1" lang="en-US" sz="4000" spc="-1" strike="noStrike">
                <a:solidFill>
                  <a:srgbClr val="0000cc"/>
                </a:solidFill>
                <a:latin typeface="Book Antiqua"/>
              </a:rPr>
              <a:t>’</a:t>
            </a:r>
            <a:r>
              <a:rPr b="1" lang="en-US" sz="4000" spc="-1" strike="noStrike">
                <a:solidFill>
                  <a:srgbClr val="0000cc"/>
                </a:solidFill>
                <a:latin typeface="Book Antiqua"/>
              </a:rPr>
              <a:t>(</a:t>
            </a:r>
            <a:r>
              <a:rPr b="1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3, </a:t>
            </a:r>
            <a:r>
              <a:rPr b="1" lang="en-US" sz="4000" spc="-1" strike="noStrike">
                <a:solidFill>
                  <a:srgbClr val="0000cc"/>
                </a:solidFill>
                <a:latin typeface="Zurich Ex BT"/>
                <a:ea typeface="Times New Roman"/>
              </a:rPr>
              <a:t>-</a:t>
            </a:r>
            <a:r>
              <a:rPr b="1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4" dur="indefinite" restart="never" nodeType="tmRoot">
          <p:childTnLst>
            <p:seq>
              <p:cTn id="1075" dur="indefinite" nodeType="mainSeq">
                <p:childTnLst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0" dur="8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1" dur="8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2" dur="8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5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0" y="1663560"/>
            <a:ext cx="9144000" cy="34419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492  9 – 10 #1 – 11, 12 – 2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698400" y="1811160"/>
            <a:ext cx="3110040" cy="312120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/>
          <p:cNvPicPr/>
          <p:nvPr/>
        </p:nvPicPr>
        <p:blipFill>
          <a:blip r:embed="rId2"/>
          <a:stretch/>
        </p:blipFill>
        <p:spPr>
          <a:xfrm>
            <a:off x="4506840" y="1827360"/>
            <a:ext cx="4130640" cy="306540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0" y="642960"/>
            <a:ext cx="911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Judging from appearance, tell whether each figure has rotational symmetry. If so, what is the angle of rotation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1160640" y="5327640"/>
            <a:ext cx="838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Yes</a:t>
            </a:r>
            <a:endParaRPr b="0" lang="en-US" sz="32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2703600" y="5311800"/>
            <a:ext cx="552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90</a:t>
            </a:r>
            <a:endParaRPr b="0" lang="en-US" sz="32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3327480" y="5246640"/>
            <a:ext cx="22536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o</a:t>
            </a:r>
            <a:endParaRPr b="0" lang="en-US" sz="14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5135400" y="5340240"/>
            <a:ext cx="8384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Yes</a:t>
            </a:r>
            <a:endParaRPr b="0" lang="en-US" sz="32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6678720" y="5324400"/>
            <a:ext cx="552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60</a:t>
            </a:r>
            <a:endParaRPr b="0" lang="en-US" sz="32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7302600" y="5259240"/>
            <a:ext cx="22536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o</a:t>
            </a:r>
            <a:endParaRPr b="0" lang="en-US" sz="14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1409760" y="5945040"/>
                <a:ext cx="199692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60</m:t>
                    </m:r>
                    <m:r>
                      <m:t xml:space="preserve">÷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2" name=""/>
          <p:cNvSpPr/>
          <p:nvPr/>
        </p:nvSpPr>
        <p:spPr>
          <a:xfrm>
            <a:off x="185760" y="2050920"/>
            <a:ext cx="70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8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011480" y="1984320"/>
            <a:ext cx="70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9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4" name=""/>
              <p:cNvSpPr txBox="1"/>
              <p:nvPr/>
            </p:nvSpPr>
            <p:spPr>
              <a:xfrm>
                <a:off x="5415120" y="5923080"/>
                <a:ext cx="1965240" cy="74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60</m:t>
                    </m:r>
                    <m:r>
                      <m:t xml:space="preserve">÷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0" dur="indefinite" restart="never" nodeType="tmRoot">
          <p:childTnLst>
            <p:seq>
              <p:cTn id="1111" dur="indefinite" nodeType="mainSeq">
                <p:childTnLst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6" dur="8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7" dur="8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8" dur="8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3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6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2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5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0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5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0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3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8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1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tes Over 9 - 9                                Refle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925560"/>
            <a:ext cx="8915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A _______________is a line that you can put inside an object to where the part of the object on one side of the line is a reflection on the other s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784080" y="1030320"/>
            <a:ext cx="278136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line of symmetry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cc3300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5" name=""/>
          <p:cNvSpPr/>
          <p:nvPr/>
        </p:nvSpPr>
        <p:spPr>
          <a:xfrm>
            <a:off x="1073160" y="2960640"/>
            <a:ext cx="2570040" cy="2554200"/>
          </a:xfrm>
          <a:prstGeom prst="smileyFace">
            <a:avLst>
              <a:gd name="adj" fmla="val 928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3760" y="2598840"/>
            <a:ext cx="14400" cy="34099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0" y="1625760"/>
            <a:ext cx="9144000" cy="3717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492  9 – 10 #1 – 11, 12 – 2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7" name="" descr=""/>
          <p:cNvPicPr/>
          <p:nvPr/>
        </p:nvPicPr>
        <p:blipFill>
          <a:blip r:embed="rId1"/>
          <a:stretch/>
        </p:blipFill>
        <p:spPr>
          <a:xfrm>
            <a:off x="712800" y="1968480"/>
            <a:ext cx="3402000" cy="303228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4879800" y="1965240"/>
            <a:ext cx="3921480" cy="296568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/>
          <p:nvPr/>
        </p:nvSpPr>
        <p:spPr>
          <a:xfrm>
            <a:off x="0" y="642960"/>
            <a:ext cx="911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Judging from appearance, tell whether each figure has rotational symmetry. If so, what is the angle of rotation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0" y="2050920"/>
            <a:ext cx="105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0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125960" y="2043000"/>
            <a:ext cx="94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1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1219320" y="5511960"/>
            <a:ext cx="838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Yes</a:t>
            </a:r>
            <a:endParaRPr b="0" lang="en-US" sz="32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2948040" y="5522760"/>
            <a:ext cx="552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60</a:t>
            </a:r>
            <a:endParaRPr b="0" lang="en-US" sz="32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3603600" y="5430960"/>
            <a:ext cx="22536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o</a:t>
            </a:r>
            <a:endParaRPr b="0" lang="en-US" sz="14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6440400" y="5484960"/>
            <a:ext cx="8384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</a:t>
            </a:r>
            <a:endParaRPr b="0" lang="en-US" sz="32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1517760" y="6227640"/>
                <a:ext cx="193176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60</m:t>
                    </m:r>
                    <m:r>
                      <m:t xml:space="preserve">÷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2" dur="indefinite" restart="never" nodeType="tmRoot">
          <p:childTnLst>
            <p:seq>
              <p:cTn id="1173" dur="indefinite" nodeType="mainSeq">
                <p:childTnLst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1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4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7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0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5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0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5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8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3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492  9 – 10 #1 – 11, 12 – 2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tes Over 9 - 9                                Refle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88272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raw all the lines of symmet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116080" y="1424160"/>
            <a:ext cx="15840" cy="38750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1353960"/>
            <a:ext cx="257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1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10800000">
            <a:off x="1278000" y="1712520"/>
            <a:ext cx="1668240" cy="2932200"/>
          </a:xfrm>
          <a:prstGeom prst="triangle">
            <a:avLst>
              <a:gd name="adj" fmla="val 50000"/>
            </a:avLst>
          </a:prstGeom>
          <a:solidFill>
            <a:srgbClr val="ffff00">
              <a:alpha val="4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9800" y="5473800"/>
            <a:ext cx="343872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isosceles triangle</a:t>
            </a:r>
            <a:endParaRPr b="0" lang="en-US" sz="2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3300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6797160" y="1328760"/>
            <a:ext cx="16200" cy="38750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735440" y="1374840"/>
            <a:ext cx="257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2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181480" y="5495760"/>
            <a:ext cx="343872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regular octagon</a:t>
            </a:r>
            <a:endParaRPr b="0" lang="en-US" sz="2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3300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6" name=""/>
          <p:cNvSpPr/>
          <p:nvPr/>
        </p:nvSpPr>
        <p:spPr>
          <a:xfrm>
            <a:off x="5311800" y="1684440"/>
            <a:ext cx="3017880" cy="3017880"/>
          </a:xfrm>
          <a:prstGeom prst="octagon">
            <a:avLst>
              <a:gd name="adj" fmla="val 29287"/>
            </a:avLst>
          </a:prstGeom>
          <a:solidFill>
            <a:srgbClr val="0000ff">
              <a:alpha val="3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 flipV="1">
            <a:off x="4903920" y="3208320"/>
            <a:ext cx="3875040" cy="158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406120" y="1881360"/>
            <a:ext cx="2751120" cy="27288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5462640" y="1885320"/>
            <a:ext cx="2728800" cy="27511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052680" y="1422360"/>
            <a:ext cx="1492200" cy="36291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4994640" y="2444760"/>
            <a:ext cx="3621240" cy="15109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4978080" y="2454120"/>
            <a:ext cx="3629160" cy="14925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6051240" y="1375200"/>
            <a:ext cx="1510920" cy="36212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1880" y="6075360"/>
            <a:ext cx="343872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1 line of symmetry</a:t>
            </a:r>
            <a:endParaRPr b="0" lang="en-US" sz="2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5072040" y="6067440"/>
            <a:ext cx="378144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8 lines of symmetry</a:t>
            </a:r>
            <a:endParaRPr b="0" lang="en-US" sz="2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8600" y="88596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3. Graph the image over the </a:t>
            </a:r>
            <a:r>
              <a:rPr b="1" i="1" lang="en-US" sz="3200" spc="-1" strike="noStrike">
                <a:solidFill>
                  <a:srgbClr val="cc3300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-ax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2197080" y="2025720"/>
            <a:ext cx="4122360" cy="4122360"/>
            <a:chOff x="2197080" y="2025720"/>
            <a:chExt cx="4122360" cy="4122360"/>
          </a:xfrm>
        </p:grpSpPr>
        <p:sp>
          <p:nvSpPr>
            <p:cNvPr id="78" name=""/>
            <p:cNvSpPr/>
            <p:nvPr/>
          </p:nvSpPr>
          <p:spPr>
            <a:xfrm>
              <a:off x="2197080" y="202572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021120" y="2025720"/>
              <a:ext cx="412200" cy="412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845880" y="2025720"/>
              <a:ext cx="411840" cy="412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670280" y="2025720"/>
              <a:ext cx="412200" cy="412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494680" y="2025720"/>
              <a:ext cx="412200" cy="412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197080" y="2025720"/>
              <a:ext cx="412200" cy="412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197080" y="243792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197080" y="2850480"/>
              <a:ext cx="4122360" cy="411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197080" y="326232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197080" y="367452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197080" y="4087080"/>
              <a:ext cx="4122360" cy="411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197080" y="449892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197080" y="491148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197080" y="5323680"/>
              <a:ext cx="4122360" cy="411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97080" y="573588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4253040" y="1828800"/>
            <a:ext cx="0" cy="4470480"/>
          </a:xfrm>
          <a:prstGeom prst="line">
            <a:avLst/>
          </a:prstGeom>
          <a:ln w="5724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003400" y="4092480"/>
            <a:ext cx="4513320" cy="0"/>
          </a:xfrm>
          <a:prstGeom prst="line">
            <a:avLst/>
          </a:prstGeom>
          <a:ln w="5724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05440" y="3192480"/>
            <a:ext cx="144360" cy="144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826240" y="3605040"/>
            <a:ext cx="144360" cy="144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19800" y="2357280"/>
            <a:ext cx="144360" cy="144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tes Over 9 - 9                                Refle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079960" y="2425680"/>
            <a:ext cx="825480" cy="1244520"/>
          </a:xfrm>
          <a:custGeom>
            <a:avLst/>
            <a:gdLst/>
            <a:ahLst/>
            <a:rect l="l" t="t" r="r" b="b"/>
            <a:pathLst>
              <a:path w="520" h="784">
                <a:moveTo>
                  <a:pt x="0" y="520"/>
                </a:moveTo>
                <a:lnTo>
                  <a:pt x="256" y="0"/>
                </a:lnTo>
                <a:lnTo>
                  <a:pt x="520" y="784"/>
                </a:lnTo>
                <a:lnTo>
                  <a:pt x="0" y="520"/>
                </a:lnTo>
                <a:close/>
              </a:path>
            </a:pathLst>
          </a:custGeom>
          <a:solidFill>
            <a:srgbClr val="00cc99">
              <a:alpha val="40000"/>
            </a:srgbClr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92640" y="320040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3443400" y="3193920"/>
            <a:ext cx="7617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60600" y="3184560"/>
            <a:ext cx="144720" cy="1443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944800" y="2365200"/>
            <a:ext cx="144360" cy="1447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17840" y="3591000"/>
            <a:ext cx="144360" cy="1443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98840" y="2438280"/>
            <a:ext cx="826920" cy="1233720"/>
          </a:xfrm>
          <a:custGeom>
            <a:avLst/>
            <a:gdLst/>
            <a:ahLst/>
            <a:rect l="l" t="t" r="r" b="b"/>
            <a:pathLst>
              <a:path w="521" h="777">
                <a:moveTo>
                  <a:pt x="0" y="777"/>
                </a:moveTo>
                <a:lnTo>
                  <a:pt x="265" y="0"/>
                </a:lnTo>
                <a:lnTo>
                  <a:pt x="521" y="512"/>
                </a:lnTo>
                <a:lnTo>
                  <a:pt x="0" y="777"/>
                </a:lnTo>
                <a:close/>
              </a:path>
            </a:pathLst>
          </a:custGeom>
          <a:solidFill>
            <a:srgbClr val="3366ff">
              <a:alpha val="30000"/>
            </a:srgbClr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28600" y="88596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4. Graph the image over the line </a:t>
            </a:r>
            <a:r>
              <a:rPr b="1" i="1" lang="en-US" sz="3200" spc="-1" strike="noStrike">
                <a:solidFill>
                  <a:srgbClr val="cc3300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 = 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2197080" y="2025720"/>
            <a:ext cx="4122360" cy="4122360"/>
            <a:chOff x="2197080" y="2025720"/>
            <a:chExt cx="4122360" cy="4122360"/>
          </a:xfrm>
        </p:grpSpPr>
        <p:sp>
          <p:nvSpPr>
            <p:cNvPr id="108" name=""/>
            <p:cNvSpPr/>
            <p:nvPr/>
          </p:nvSpPr>
          <p:spPr>
            <a:xfrm>
              <a:off x="2197080" y="202572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021120" y="2025720"/>
              <a:ext cx="412200" cy="412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45880" y="2025720"/>
              <a:ext cx="411840" cy="412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670280" y="2025720"/>
              <a:ext cx="412200" cy="412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494680" y="2025720"/>
              <a:ext cx="412200" cy="412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197080" y="2025720"/>
              <a:ext cx="412200" cy="412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197080" y="243792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197080" y="2850480"/>
              <a:ext cx="4122360" cy="411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197080" y="326232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197080" y="367452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197080" y="4087080"/>
              <a:ext cx="4122360" cy="411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197080" y="449892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197080" y="491148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197080" y="5323680"/>
              <a:ext cx="4122360" cy="411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197080" y="573588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3425760" y="1784520"/>
            <a:ext cx="0" cy="4470120"/>
          </a:xfrm>
          <a:prstGeom prst="line">
            <a:avLst/>
          </a:prstGeom>
          <a:ln w="5724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31840" y="4919760"/>
            <a:ext cx="4513320" cy="0"/>
          </a:xfrm>
          <a:prstGeom prst="line">
            <a:avLst/>
          </a:prstGeom>
          <a:ln w="5724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351240" y="3598920"/>
            <a:ext cx="144360" cy="144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92520" y="2357280"/>
            <a:ext cx="144720" cy="144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824440" y="2778120"/>
            <a:ext cx="144720" cy="144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91440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tes Over 9 - 9                                Refle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46560" y="4405320"/>
            <a:ext cx="144360" cy="1443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84600" y="5661000"/>
            <a:ext cx="144720" cy="1443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827680" y="5245200"/>
            <a:ext cx="144360" cy="1443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95520" y="2438280"/>
            <a:ext cx="2497320" cy="1233720"/>
          </a:xfrm>
          <a:custGeom>
            <a:avLst/>
            <a:gdLst/>
            <a:ahLst/>
            <a:rect l="l" t="t" r="r" b="b"/>
            <a:pathLst>
              <a:path w="1573" h="777">
                <a:moveTo>
                  <a:pt x="0" y="777"/>
                </a:moveTo>
                <a:lnTo>
                  <a:pt x="796" y="0"/>
                </a:lnTo>
                <a:lnTo>
                  <a:pt x="1573" y="256"/>
                </a:lnTo>
                <a:lnTo>
                  <a:pt x="0" y="777"/>
                </a:lnTo>
                <a:close/>
              </a:path>
            </a:pathLst>
          </a:custGeom>
          <a:solidFill>
            <a:srgbClr val="00cc99">
              <a:alpha val="40000"/>
            </a:srgbClr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32120" y="4078440"/>
            <a:ext cx="4817880" cy="0"/>
          </a:xfrm>
          <a:prstGeom prst="line">
            <a:avLst/>
          </a:prstGeom>
          <a:ln w="38160">
            <a:solidFill>
              <a:srgbClr val="3333cc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126200" y="987480"/>
            <a:ext cx="201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rizon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5" name=""/>
          <p:cNvCxnSpPr>
            <a:stCxn id="134" idx="2"/>
            <a:endCxn id="133" idx="0"/>
          </p:cNvCxnSpPr>
          <p:nvPr/>
        </p:nvCxnSpPr>
        <p:spPr>
          <a:xfrm rot="5400000">
            <a:off x="6147000" y="2108880"/>
            <a:ext cx="2591280" cy="1386720"/>
          </a:xfrm>
          <a:prstGeom prst="curvedConnector5">
            <a:avLst>
              <a:gd name="adj1" fmla="val 99013"/>
              <a:gd name="adj2" fmla="val 49987"/>
              <a:gd name="adj3" fmla="val 99013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3395520" y="4470480"/>
            <a:ext cx="2497320" cy="1262160"/>
          </a:xfrm>
          <a:custGeom>
            <a:avLst/>
            <a:gdLst/>
            <a:ahLst/>
            <a:rect l="l" t="t" r="r" b="b"/>
            <a:pathLst>
              <a:path w="1573" h="795">
                <a:moveTo>
                  <a:pt x="0" y="0"/>
                </a:moveTo>
                <a:lnTo>
                  <a:pt x="796" y="795"/>
                </a:lnTo>
                <a:lnTo>
                  <a:pt x="1573" y="530"/>
                </a:lnTo>
                <a:lnTo>
                  <a:pt x="0" y="0"/>
                </a:lnTo>
                <a:close/>
              </a:path>
            </a:pathLst>
          </a:custGeom>
          <a:solidFill>
            <a:srgbClr val="3366ff">
              <a:alpha val="40000"/>
            </a:srgbClr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500"/>
                            </p:stCondLst>
                            <p:childTnLst>
                              <p:par>
                                <p:cTn id="2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5543640" y="2468520"/>
            <a:ext cx="2523960" cy="2524320"/>
          </a:xfrm>
          <a:prstGeom prst="rect">
            <a:avLst/>
          </a:prstGeom>
          <a:solidFill>
            <a:srgbClr val="00ccff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487  9 – 9 #1 – 9, 10 – 2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719280"/>
            <a:ext cx="9147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Draw each figure. Draw all lines of symmetry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" y="1353960"/>
            <a:ext cx="257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1.  rhombu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6813360" y="2082960"/>
            <a:ext cx="12600" cy="3222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35440" y="1374840"/>
            <a:ext cx="257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2.  squ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4917960" y="3730680"/>
            <a:ext cx="3875040" cy="158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420160" y="2403360"/>
            <a:ext cx="2751480" cy="27291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5477040" y="2407320"/>
            <a:ext cx="2728800" cy="27511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60360" y="5711760"/>
            <a:ext cx="343836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2 lines of symmetry</a:t>
            </a:r>
            <a:endParaRPr b="0" lang="en-US" sz="2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5072040" y="5762520"/>
            <a:ext cx="378144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4 lines of symmetry</a:t>
            </a:r>
            <a:endParaRPr b="0" lang="en-US" sz="2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8" name=""/>
          <p:cNvSpPr/>
          <p:nvPr/>
        </p:nvSpPr>
        <p:spPr>
          <a:xfrm>
            <a:off x="420840" y="2352600"/>
            <a:ext cx="2814480" cy="2119320"/>
          </a:xfrm>
          <a:prstGeom prst="parallelogram">
            <a:avLst>
              <a:gd name="adj" fmla="val 33200"/>
            </a:avLst>
          </a:prstGeom>
          <a:solidFill>
            <a:srgbClr val="ffcc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83600" y="2211480"/>
            <a:ext cx="3244320" cy="24206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905760" y="1994760"/>
            <a:ext cx="1780200" cy="27208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2700"/>
                            </p:stCondLst>
                            <p:childTnLst>
                              <p:par>
                                <p:cTn id="333" nodeType="afterEffect" fill="hold" presetClass="emph" presetID="2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33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3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3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3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fastc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6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7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8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487  9 – 9 #1 – 9, 10 – 2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719280"/>
            <a:ext cx="9147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Draw each figure. Draw all lines of symmetry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" y="1353960"/>
            <a:ext cx="422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3.  isosceles triang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0880" y="4449600"/>
            <a:ext cx="343836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1 line of symmetry</a:t>
            </a:r>
            <a:endParaRPr b="0" lang="en-US" sz="2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865080" y="3109320"/>
            <a:ext cx="3331800" cy="25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5400000">
            <a:off x="1625400" y="1800000"/>
            <a:ext cx="1741320" cy="2611440"/>
          </a:xfrm>
          <a:prstGeom prst="triangle">
            <a:avLst>
              <a:gd name="adj" fmla="val 50000"/>
            </a:avLst>
          </a:prstGeom>
          <a:solidFill>
            <a:srgbClr val="cc99ff">
              <a:alpha val="4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5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7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fastc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2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2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487  9 – 9 #1 – 9, 10 – 2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719280"/>
            <a:ext cx="9147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Graph each point and its image over the given lin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16080" y="1338120"/>
            <a:ext cx="422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4.  </a:t>
            </a:r>
            <a:r>
              <a:rPr b="1" i="1" lang="en-US" sz="3200" spc="-1" strike="noStrike">
                <a:solidFill>
                  <a:srgbClr val="80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(7, 1); </a:t>
            </a:r>
            <a:r>
              <a:rPr b="1" i="1" lang="en-US" sz="3200" spc="-1" strike="noStrike">
                <a:solidFill>
                  <a:srgbClr val="8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-ax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2349360" y="2178000"/>
            <a:ext cx="4122360" cy="4122360"/>
            <a:chOff x="2349360" y="2178000"/>
            <a:chExt cx="4122360" cy="4122360"/>
          </a:xfrm>
        </p:grpSpPr>
        <p:sp>
          <p:nvSpPr>
            <p:cNvPr id="161" name=""/>
            <p:cNvSpPr/>
            <p:nvPr/>
          </p:nvSpPr>
          <p:spPr>
            <a:xfrm>
              <a:off x="2349360" y="217800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173400" y="2178000"/>
              <a:ext cx="412200" cy="412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98160" y="2178000"/>
              <a:ext cx="411840" cy="412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22560" y="2178000"/>
              <a:ext cx="412200" cy="412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46960" y="2178000"/>
              <a:ext cx="412200" cy="412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349360" y="2178000"/>
              <a:ext cx="412200" cy="412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349360" y="259020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349360" y="3002760"/>
              <a:ext cx="4122360" cy="411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349360" y="341460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349360" y="382680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349360" y="4239360"/>
              <a:ext cx="4122360" cy="411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49360" y="465120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349360" y="506376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349360" y="5475960"/>
              <a:ext cx="4122360" cy="411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349360" y="588816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765520" y="1965240"/>
            <a:ext cx="0" cy="4470480"/>
          </a:xfrm>
          <a:prstGeom prst="line">
            <a:avLst/>
          </a:prstGeom>
          <a:ln w="5724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155680" y="4245120"/>
            <a:ext cx="4513320" cy="0"/>
          </a:xfrm>
          <a:prstGeom prst="line">
            <a:avLst/>
          </a:prstGeom>
          <a:ln w="5724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580000" y="3751200"/>
            <a:ext cx="144360" cy="144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575320" y="4572000"/>
            <a:ext cx="144360" cy="1443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427720" y="3382920"/>
            <a:ext cx="9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91000" y="4653000"/>
            <a:ext cx="9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0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6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7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8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3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6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487  9 – 9 #1 – 9, 10 – 2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719280"/>
            <a:ext cx="9147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Graph each point and its image over the given lin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16080" y="1338120"/>
            <a:ext cx="422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5.  </a:t>
            </a:r>
            <a:r>
              <a:rPr b="1" i="1" lang="en-US" sz="3200" spc="-1" strike="noStrike">
                <a:solidFill>
                  <a:srgbClr val="8000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(5, </a:t>
            </a:r>
            <a:r>
              <a:rPr b="1" lang="en-US" sz="3200" spc="-1" strike="noStrike">
                <a:solidFill>
                  <a:srgbClr val="800000"/>
                </a:solidFill>
                <a:latin typeface="Zurich Ex BT"/>
              </a:rPr>
              <a:t>-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 1); </a:t>
            </a:r>
            <a:r>
              <a:rPr b="1" i="1" lang="en-US" sz="3200" spc="-1" strike="noStrike">
                <a:solidFill>
                  <a:srgbClr val="800000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-ax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349360" y="2178000"/>
            <a:ext cx="4122360" cy="4122360"/>
            <a:chOff x="2349360" y="2178000"/>
            <a:chExt cx="4122360" cy="4122360"/>
          </a:xfrm>
        </p:grpSpPr>
        <p:sp>
          <p:nvSpPr>
            <p:cNvPr id="186" name=""/>
            <p:cNvSpPr/>
            <p:nvPr/>
          </p:nvSpPr>
          <p:spPr>
            <a:xfrm>
              <a:off x="2349360" y="217800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173400" y="2178000"/>
              <a:ext cx="412200" cy="412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998160" y="2178000"/>
              <a:ext cx="411840" cy="412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822560" y="2178000"/>
              <a:ext cx="412200" cy="412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646960" y="2178000"/>
              <a:ext cx="412200" cy="412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349360" y="2178000"/>
              <a:ext cx="412200" cy="412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349360" y="259020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349360" y="3002760"/>
              <a:ext cx="4122360" cy="411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349360" y="341460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349360" y="382680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349360" y="4239360"/>
              <a:ext cx="4122360" cy="411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349360" y="465120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349360" y="506376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349360" y="5475960"/>
              <a:ext cx="4122360" cy="411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349360" y="588816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4405320" y="1995480"/>
            <a:ext cx="0" cy="4470480"/>
          </a:xfrm>
          <a:prstGeom prst="line">
            <a:avLst/>
          </a:prstGeom>
          <a:ln w="5724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155680" y="4245120"/>
            <a:ext cx="4513320" cy="0"/>
          </a:xfrm>
          <a:prstGeom prst="line">
            <a:avLst/>
          </a:prstGeom>
          <a:ln w="5724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378480" y="4578480"/>
            <a:ext cx="144720" cy="144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65480" y="4586400"/>
            <a:ext cx="144360" cy="1443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761080" y="4630680"/>
            <a:ext cx="9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125800" y="4610160"/>
            <a:ext cx="92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6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7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8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3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6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0T14:50:16Z</dcterms:created>
  <dc:creator>CCSS</dc:creator>
  <dc:description/>
  <dc:language>en-US</dc:language>
  <cp:lastModifiedBy>damon.skelton</cp:lastModifiedBy>
  <dcterms:modified xsi:type="dcterms:W3CDTF">2005-04-01T18:00:47Z</dcterms:modified>
  <cp:revision>18</cp:revision>
  <dc:subject/>
  <dc:title>No Slide Title</dc:title>
</cp:coreProperties>
</file>